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25BB-80DF-4C44-9D1D-084060FC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6E6-7EBE-40AC-BE66-25FDB393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0D98-E009-4FF3-88A7-310BA78E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26D0-BFB1-4426-AE9D-246E7F61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3C94-94B0-429F-8FED-8F70AC11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179A-9269-4A39-B195-1B859D83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6905-C021-4235-A3A0-85C19D7A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BBD7-031F-40E5-922A-68747E54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1889-03FB-46C3-90B6-1D2475A8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3525-1AF6-429B-882D-22725D12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EFF2-B283-4C5C-B4B0-A5BC3C05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1ED0-2636-47A7-80D1-0B7D0559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6DC3-1247-4B25-A2C7-ABCFE3FF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82D9-83AA-4A09-AD51-803AB355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0C3B-A6EB-4680-A543-9C71EB37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15FD-3F2F-45B9-9C54-07F17DC2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B822-7717-40F2-9A13-3BFAFFBD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964-06D5-4D00-997D-EF2F7575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7394-8569-4BE3-B723-3574186B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B4AF-8D04-4CB5-BEB4-07BF5D07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D1AF-33B9-4E8F-B49E-A4265B9B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CA1C-6895-4A13-9D5F-0B16E9B9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5BE-4796-47FC-9D50-FFACAD34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8210-E98A-4663-B1FB-C3EB3336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36D5-46A6-42E2-A344-18578D2870FC}" type="slidenum">
              <a:rPr b="0" lang="he-IL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AE41-A4D4-42ED-AF8D-3E6F094D05B8}" type="slidenum">
              <a:rPr b="0" lang="he-IL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67652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0000"/>
                </a:solidFill>
                <a:latin typeface="Comic Sans MS"/>
              </a:rPr>
              <a:t>סיבות נוירולוגיות לאירוע מסכן חיים לכאורה (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LTE</a:t>
            </a:r>
            <a:r>
              <a:rPr b="1" lang="he-IL" sz="3600" spc="-1" strike="noStrike">
                <a:solidFill>
                  <a:srgbClr val="ff0000"/>
                </a:solidFill>
                <a:latin typeface="Comic Sans MS"/>
              </a:rPr>
              <a:t>) </a:t>
            </a:r>
            <a:br>
              <a:rPr sz="3600"/>
            </a:br>
            <a:r>
              <a:rPr b="1" lang="he-IL" sz="3600" spc="-1" strike="noStrike">
                <a:solidFill>
                  <a:srgbClr val="ff0000"/>
                </a:solidFill>
                <a:latin typeface="Comic Sans MS"/>
              </a:rPr>
              <a:t>והבירור הנדרש – הרצוי והמצוי</a:t>
            </a:r>
            <a:r>
              <a:rPr b="1" lang="he-IL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ד"ר יעקב גניז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היחידה לנוירולוגית ילדי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ביה"ח מאייר, מ.ר. רמב"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3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TE vs SID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4800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pidemiology of apparent life threatening events</a:t>
            </a:r>
            <a:r>
              <a:rPr b="0" lang="he-IL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 Dis Child. 2005 Mar;90(3):297-300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 various SIDS risk factors in the survey area, the prone sleeping position, smoking during pregnancy, low gestational age, profuse night sweating, and family history of infant death showe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dera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elation to the risk of overall ALTE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nly smoking maintained significance in the multivariate risk model</a:t>
            </a:r>
            <a:r>
              <a:rPr b="0" lang="he-IL" sz="28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4952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ediatr Perinat Epidemiol</a:t>
            </a:r>
            <a:r>
              <a:rPr b="0" lang="he-IL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2006 Nov;20(6):491-6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30456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1992 the worldwide Back to Sleep campaign was implemented, which had a dramatic effect on the incidence of sudden infant death syndrome (SIDS)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 drop of 50%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present results show that the frequency of AL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ed sevenfol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 &lt; 0.005</a:t>
            </a: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tween 1992 and 1999</a:t>
            </a: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tro-oesophageal reflux (GOR) has a high prevalence in infancy. The supine position is among numerous aggravating factors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259092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0000"/>
                </a:solidFill>
                <a:latin typeface="Comic Sans MS"/>
              </a:rPr>
              <a:t>מהו הבירור הנדרש</a:t>
            </a:r>
            <a:r>
              <a:rPr b="0" lang="he-IL" sz="40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0" lang="he-IL" sz="4000" spc="-1" strike="noStrike">
                <a:solidFill>
                  <a:srgbClr val="ff0000"/>
                </a:solidFill>
                <a:latin typeface="Comic Sans MS"/>
              </a:rPr>
              <a:t>?</a:t>
            </a:r>
            <a:br>
              <a:rPr sz="4000"/>
            </a:br>
            <a:r>
              <a:rPr b="0" lang="he-IL" sz="4000" spc="-1" strike="noStrike">
                <a:solidFill>
                  <a:srgbClr val="ff0000"/>
                </a:solidFill>
                <a:latin typeface="Comic Sans MS"/>
              </a:rPr>
              <a:t>מנימאלי </a:t>
            </a:r>
            <a:br>
              <a:rPr sz="4000"/>
            </a:br>
            <a:r>
              <a:rPr b="0" lang="he-IL" sz="4000" spc="-1" strike="noStrike">
                <a:solidFill>
                  <a:srgbClr val="ff0000"/>
                </a:solidFill>
                <a:latin typeface="Comic Sans MS"/>
              </a:rPr>
              <a:t>או</a:t>
            </a:r>
            <a:br>
              <a:rPr sz="4000"/>
            </a:br>
            <a:r>
              <a:rPr b="0" lang="he-IL" sz="4000" spc="-1" strike="noStrike">
                <a:solidFill>
                  <a:srgbClr val="ff0000"/>
                </a:solidFill>
                <a:latin typeface="Comic Sans MS"/>
              </a:rPr>
              <a:t>מקסימאלי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Comic Sans MS"/>
              </a:rPr>
              <a:t>מטרה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Comic Sans MS"/>
              </a:rPr>
              <a:t>    לבדוק את שכיחותן של בעיות נוירולוגיות כאחראיות לאירוע מסכן חיים לכאורה (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TE</a:t>
            </a:r>
            <a:r>
              <a:rPr b="0" lang="he-IL" sz="3600" spc="-1" strike="noStrike">
                <a:solidFill>
                  <a:srgbClr val="000000"/>
                </a:solidFill>
                <a:latin typeface="Comic Sans MS"/>
              </a:rPr>
              <a:t>) ומהו הבירור היעיל הנדרש לאבחונן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Comic Sans MS"/>
              </a:rPr>
              <a:t>שיטות</a:t>
            </a:r>
            <a:r>
              <a:rPr b="1" lang="he-IL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   נערכה סקירה של כל הילדים עד גיל שנה אשר אושפזו בבית החולים מאייר לילדים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מ.ר. רמב"ם חיפה, תחת האבחנות הרלוונטיות כולל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TE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 , פרכוסים, החזר  קיבתי ושטי 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R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 והפסקת נשימה, בששת השנים האחרונות. נערכה סריקה יסודית של גליונות האשפוז, כולל סיבת הפניה, הבירור שבוצע ותוצאותיו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Comic Sans MS"/>
              </a:rPr>
              <a:t>תוצאות</a:t>
            </a:r>
            <a:r>
              <a:rPr b="1" lang="he-IL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     מתוך כחמש מאות תיקים שנסקרו, </a:t>
            </a: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70</a:t>
            </a: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 ענו על ההגדרה של  אירוע מסכן חיים לכאורה</a:t>
            </a:r>
            <a:r>
              <a:rPr b="0" lang="he-I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TE</a:t>
            </a: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) בגיל שבוע ועד שמונה חודשים (ממוצע </a:t>
            </a: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65</a:t>
            </a: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 יום). התינוקות פנו עקב התלונות הבאות לפי שכיחות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הפסקת נשימה </a:t>
            </a: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28%</a:t>
            </a: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השתנקות </a:t>
            </a: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27%</a:t>
            </a: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שינוי צבע </a:t>
            </a: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23%</a:t>
            </a: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חוסר תגובה </a:t>
            </a: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14%</a:t>
            </a: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שינוי במצב הטונוס </a:t>
            </a: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9%</a:t>
            </a: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Comic Sans MS"/>
              </a:rPr>
              <a:t>תוצאות </a:t>
            </a:r>
            <a:r>
              <a:rPr b="1" lang="he-IL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he-IL" sz="44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1" lang="he-IL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he-IL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he-IL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he-IL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הבירור אשר בוצע כלל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 ספירת דם </a:t>
            </a: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91%</a:t>
            </a: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אלקטרואנצפלוגרפיה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EG</a:t>
            </a: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 84%</a:t>
            </a: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אק"ג </a:t>
            </a: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53%</a:t>
            </a: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גזים בדם </a:t>
            </a: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43%</a:t>
            </a: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אקו לב </a:t>
            </a: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41%</a:t>
            </a: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הדמיה מוחית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T/US</a:t>
            </a: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39%</a:t>
            </a: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omic Sans MS"/>
              </a:rPr>
              <a:t>בדיקות נוספות בוצעו באופן פרטני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Comic Sans MS"/>
              </a:rPr>
              <a:t>תוצאות </a:t>
            </a:r>
            <a:r>
              <a:rPr b="1" lang="he-IL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he-IL" sz="44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1" lang="he-IL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he-IL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he-IL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he-IL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אבחנות השחרור לפי מערכות היו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לא ידוע 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44%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מערכת העיכול 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30%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מערכת העצבים 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21%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מערכת הנשימה 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4%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Comic Sans MS"/>
              </a:rPr>
              <a:t>מערכת העצבים המרכזית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מתוך 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 הילדים אשר סבלו מהפרעה במערכת העצבים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 אובחנו כפרכוס, ושניים כאפניאה מרכזית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רק בילד אחד מתוך הילדים המפרכסים בדיקת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EG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 הייתה פתולוגית, אך האבחנה נעשתה לאור הסיפור המכוון אף 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Comic Sans MS"/>
              </a:rPr>
              <a:t>ללא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 תוצאת הבדיקה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ההדמיה המוחית בכולם הייתה תקינה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E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apparent life threatening event </a:t>
            </a: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TE</a:t>
            </a:r>
            <a:r>
              <a:rPr b="0" lang="he-I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s defined in 1986 a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"an episode that is frightening to the observer and that is characterised by some combination of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nea (central or occasionally obstructive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or change (usually cyanotic or pallid but occasionally erythematous or plethoric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ked change in muscle tone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oking or gagging"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5410080"/>
            <a:ext cx="6553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ational Institutes of Heal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Consensus Development Conference on Infantile Apnea and Home Monitoring, Sept 29 to Oct 1, 1986. Consensus statement.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1987;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292–9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mmended clinical evaluation of infants with an apparent life-threatening event. Consensus document of the European Society for the Study and Prevention of Infant Death, 2003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ur J Pediatr. 2004 Feb;163(2):108-1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769608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769608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Comic Sans MS"/>
              </a:rPr>
              <a:t>מסקנות</a:t>
            </a:r>
            <a:r>
              <a:rPr b="1" lang="he-IL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omic Sans MS"/>
                <a:cs typeface="Arial"/>
              </a:rPr>
              <a:t>פרכוסים הינם גורם משמעותי לאירוע מסכן חיים לכאורה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LTE</a:t>
            </a:r>
            <a:r>
              <a:rPr b="0" lang="he-IL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omic Sans MS"/>
                <a:cs typeface="Arial"/>
              </a:rPr>
              <a:t>אך, אין צורך לבצע בדיקת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EEG</a:t>
            </a:r>
            <a:r>
              <a:rPr b="0" lang="he-IL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או הדמיה מוחית בכל תינוק עם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L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omic Sans MS"/>
                <a:cs typeface="Arial"/>
              </a:rPr>
              <a:t>יש מקום לביצוע בדיקות אילו רק במידה שיש חשד קליני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omic Sans MS"/>
                <a:cs typeface="Arial"/>
              </a:rPr>
              <a:t>בדיקת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EEG</a:t>
            </a:r>
            <a:r>
              <a:rPr b="0" lang="he-IL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תקינה איננה שוללת את האבחנה הפרכוסית ועשויה להטעות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786880" y="6861240"/>
            <a:ext cx="1171440" cy="5713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286000" y="76320"/>
            <a:ext cx="5915160" cy="67816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79280" y="7380360"/>
            <a:ext cx="9720360" cy="1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pyright ©2004 BMJ Publishing Group Lt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4724640"/>
            <a:ext cx="419112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uggested initial investigation plan for 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LTE in a previously healthy inf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5334120"/>
            <a:ext cx="7289640" cy="1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cGovern, M C et al. Arch Dis Child 2004;89:1043-10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ank you!!!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cidence of AL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ncidence of ALTE was described in four studies as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.6/1000 live born infa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.6–0.8% of all emergency visits of those under 1 year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27% of hospitalised childre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Comic Sans MS"/>
              </a:rPr>
              <a:t>גורמים ל -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I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GE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spirato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LRTI: Pertusis, RSV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seizure, central apnea, SOL, Abus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V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anomaly, arrhythmi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th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infection, metabolic, 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kn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28600" y="1752480"/>
          <a:ext cx="8610480" cy="356256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Davies n =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RD (26%) GE  (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Gray, n = 130* No. of episodes = 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RD 30 (18%) GE 4 (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Kurz, n = 60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RD (30%) GE  (3%) Strangulated hernia 1 (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Laisne, n = 100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RD 66 </a:t>
                      </a:r>
                      <a:r>
                        <a:rPr b="0" lang="en-US" sz="1800" spc="-1" strike="noStrike">
                          <a:solidFill>
                            <a:srgbClr val="524af2"/>
                          </a:solidFill>
                          <a:latin typeface="Times New Roman"/>
                          <a:ea typeface="Times New Roman"/>
                        </a:rPr>
                        <a:t>(6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Sheikh, n =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RD 49 </a:t>
                      </a:r>
                      <a:r>
                        <a:rPr b="0" lang="en-US" sz="1800" spc="-1" strike="noStrike">
                          <a:solidFill>
                            <a:srgbClr val="524af2"/>
                          </a:solidFill>
                          <a:latin typeface="Times New Roman"/>
                          <a:ea typeface="Times New Roman"/>
                        </a:rPr>
                        <a:t>(6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Tal, n =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RD 7 </a:t>
                      </a:r>
                      <a:r>
                        <a:rPr b="0" lang="en-US" sz="1800" spc="-1" strike="noStrike">
                          <a:solidFill>
                            <a:srgbClr val="524af2"/>
                          </a:solidFill>
                          <a:latin typeface="Times New Roman"/>
                          <a:ea typeface="Times New Roman"/>
                        </a:rPr>
                        <a:t>(11%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lic 1 (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Tsukada, n = 19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RD 6 (32%) Oesophageal dysfunction 2 (1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V-Wauters, n = 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RD 34 (2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55627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cGovern MC, Smith MB.  Causes of apparent life threatening events in infants</a:t>
            </a:r>
            <a:r>
              <a:rPr b="0" lang="he-IL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ystematic review</a:t>
            </a:r>
            <a:r>
              <a:rPr b="0" lang="he-IL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rch Dis Child. 2004 Nov;89(11):1043-8. Revie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380880" y="1295280"/>
          <a:ext cx="8045640" cy="4200480"/>
        </p:xfrm>
        <a:graphic>
          <a:graphicData uri="http://schemas.openxmlformats.org/drawingml/2006/table">
            <a:tbl>
              <a:tblPr/>
              <a:tblGrid>
                <a:gridCol w="4023000"/>
                <a:gridCol w="40226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auth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Davies n =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tussis (9%) Other LRTI 6 (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Gray, n = 130* No. of episodes = 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TI 15 (9%) Pertussis 9 (6%) URTI 7 (4%) Asthma 2 (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Kurz, n = 60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TI 11 (18%) RSV 6 (10%) Aspiration pneumonia 2 (3%) Pertussis 1 (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Laisne, n = 100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Sheikh, n =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SV 7 (9%) Pneumonia 1 (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Tal, n =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Tsukada, n = 19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tussis 5 (26%) URTI 3 (1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V-Wauters, n = 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pira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62120" y="762120"/>
          <a:ext cx="7696080" cy="520704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Davies n =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izures  (</a:t>
                      </a:r>
                      <a:r>
                        <a:rPr b="0" lang="en-US" sz="1800" spc="-1" strike="noStrike">
                          <a:solidFill>
                            <a:srgbClr val="703dff"/>
                          </a:solidFill>
                          <a:latin typeface="Times New Roman"/>
                          <a:ea typeface="Times New Roman"/>
                        </a:rPr>
                        <a:t>12%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rain tumour  (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Gray, n = 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No. of episodes = 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izures (</a:t>
                      </a:r>
                      <a:r>
                        <a:rPr b="0" lang="en-US" sz="1800" spc="-1" strike="noStrike">
                          <a:solidFill>
                            <a:srgbClr val="703dff"/>
                          </a:solidFill>
                          <a:latin typeface="Times New Roman"/>
                          <a:ea typeface="Times New Roman"/>
                        </a:rPr>
                        <a:t>25%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ebrile seizure (</a:t>
                      </a:r>
                      <a:r>
                        <a:rPr b="0" lang="en-US" sz="1800" spc="-1" strike="noStrike">
                          <a:solidFill>
                            <a:srgbClr val="703dff"/>
                          </a:solidFill>
                          <a:latin typeface="Times New Roman"/>
                          <a:ea typeface="Times New Roman"/>
                        </a:rPr>
                        <a:t>12%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ead injury 2 (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Kurz, n = 60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izures (7%) Hydrocephalus 2 (3%) Encephalitis 1 (2%) IVH 1 (2%) Onidine’s syndrome 1 (2%) Central apnea syndrome 12 (20%) Werdnig Hoffman 1 (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Laisne, n = 100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specified (</a:t>
                      </a:r>
                      <a:r>
                        <a:rPr b="0" lang="en-US" sz="1800" spc="-1" strike="noStrike">
                          <a:solidFill>
                            <a:srgbClr val="703dff"/>
                          </a:solidFill>
                          <a:latin typeface="Times New Roman"/>
                          <a:ea typeface="Times New Roman"/>
                        </a:rPr>
                        <a:t>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Sheikh, n =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izure (</a:t>
                      </a:r>
                      <a:r>
                        <a:rPr b="0" lang="en-US" sz="1800" spc="-1" strike="noStrike">
                          <a:solidFill>
                            <a:srgbClr val="703dff"/>
                          </a:solidFill>
                          <a:latin typeface="Times New Roman"/>
                          <a:ea typeface="Times New Roman"/>
                        </a:rPr>
                        <a:t>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Tal, n =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izure (</a:t>
                      </a:r>
                      <a:r>
                        <a:rPr b="0" lang="en-US" sz="1800" spc="-1" strike="noStrike">
                          <a:solidFill>
                            <a:srgbClr val="703dff"/>
                          </a:solidFill>
                          <a:latin typeface="Times New Roman"/>
                          <a:ea typeface="Times New Roman"/>
                        </a:rPr>
                        <a:t>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Tsukada, n = 19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lepsy (</a:t>
                      </a:r>
                      <a:r>
                        <a:rPr b="0" lang="en-US" sz="1800" spc="-1" strike="noStrike">
                          <a:solidFill>
                            <a:srgbClr val="703dff"/>
                          </a:solidFill>
                          <a:latin typeface="Times New Roman"/>
                          <a:ea typeface="Times New Roman"/>
                        </a:rPr>
                        <a:t>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V-Wauters, n = 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izure (</a:t>
                      </a:r>
                      <a:r>
                        <a:rPr b="0" lang="en-US" sz="1800" spc="-1" strike="noStrike">
                          <a:solidFill>
                            <a:srgbClr val="703dff"/>
                          </a:solidFill>
                          <a:latin typeface="Times New Roman"/>
                          <a:ea typeface="Times New Roman"/>
                        </a:rPr>
                        <a:t>4%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ncephalitis 1 (1%) Meningitis 1 (1%) SAH 1 (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-2787480"/>
            <a:ext cx="914400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360" y="685800"/>
          <a:ext cx="9134640" cy="4987800"/>
        </p:xfrm>
        <a:graphic>
          <a:graphicData uri="http://schemas.openxmlformats.org/drawingml/2006/table">
            <a:tbl>
              <a:tblPr/>
              <a:tblGrid>
                <a:gridCol w="650160"/>
                <a:gridCol w="519120"/>
                <a:gridCol w="363960"/>
                <a:gridCol w="417600"/>
                <a:gridCol w="650520"/>
                <a:gridCol w="650160"/>
                <a:gridCol w="650160"/>
                <a:gridCol w="650520"/>
                <a:gridCol w="650160"/>
                <a:gridCol w="182160"/>
                <a:gridCol w="288000"/>
                <a:gridCol w="216000"/>
                <a:gridCol w="648720"/>
                <a:gridCol w="650160"/>
                <a:gridCol w="650520"/>
                <a:gridCol w="650160"/>
                <a:gridCol w="6465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1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ic blood te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bolic work 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BC, U+E, gluco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ctate, ammo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cium, magnes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um amino aci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ver function te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ine organic aci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od gas or bicarbon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ine reducing substa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yroid horm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9360" y="485640"/>
          <a:ext cx="9134640" cy="5381640"/>
        </p:xfrm>
        <a:graphic>
          <a:graphicData uri="http://schemas.openxmlformats.org/drawingml/2006/table">
            <a:tbl>
              <a:tblPr/>
              <a:tblGrid>
                <a:gridCol w="909720"/>
                <a:gridCol w="395280"/>
                <a:gridCol w="652320"/>
                <a:gridCol w="652680"/>
                <a:gridCol w="652320"/>
                <a:gridCol w="652680"/>
                <a:gridCol w="652320"/>
                <a:gridCol w="914400"/>
                <a:gridCol w="390600"/>
                <a:gridCol w="652320"/>
                <a:gridCol w="652680"/>
                <a:gridCol w="652320"/>
                <a:gridCol w="652320"/>
                <a:gridCol w="652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diolo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ction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hour t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od cul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hocardi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inalysis or cul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st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xicology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 secretions present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03d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703dff"/>
                          </a:solidFill>
                          <a:latin typeface="Times New Roman"/>
                          <a:ea typeface="Times New Roman"/>
                        </a:rPr>
                        <a:t>(EE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03dff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03dff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03dff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03d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03d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03d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tussis swa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03dff"/>
                          </a:solidFill>
                          <a:latin typeface="Times New Roman"/>
                          <a:ea typeface="Times New Roman"/>
                        </a:rPr>
                        <a:t>Polysomnogra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03dff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03d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03dff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03dff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03dff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03d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rology te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 consul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teriological te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lk scan or barium swallow or pH stu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2:43:51Z</dcterms:created>
  <dc:creator>Jennifer Kuhn</dc:creator>
  <dc:description/>
  <dc:language>en-US</dc:language>
  <cp:lastModifiedBy>יעקב</cp:lastModifiedBy>
  <dcterms:modified xsi:type="dcterms:W3CDTF">2007-01-24T19:13:12Z</dcterms:modified>
  <cp:revision>60</cp:revision>
  <dc:subject/>
  <dc:title>Child Development:</dc:title>
</cp:coreProperties>
</file>