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B65-A585-4AFC-B8AE-AA2B2586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56386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8640" y="2628360"/>
            <a:ext cx="56386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FE35-BFEF-417C-B20E-F5C63F7B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864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31800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A56-3FA1-43C1-A320-1C6127CB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5200" y="208584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241760" y="208584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28640" y="262836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335200" y="262836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241760" y="262836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E2C-7144-4862-930A-2B17BEB4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F391-71D6-42A6-8495-A8070C91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372C-C512-4288-880C-5CDFFD3A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E43A-EC7C-47FB-BAC0-821D20E4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FF8B-F0E4-4AED-B360-60E8AFEF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3ACE-297D-46E8-9045-7037CCD4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961C-4CD2-4F56-81CF-A0F7EE11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42864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0DA2-D76D-4B3F-B819-21C47DAA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DAE3-EF17-4B92-9431-8294266E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1800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B289-06DA-47F0-A018-C0335198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28640" y="2628360"/>
            <a:ext cx="56386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FB51-BC16-4F0A-A0BB-F2A52B7B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56386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28640" y="2628360"/>
            <a:ext cx="56386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17EB-3DE8-4811-A133-0C3E80E1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2864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1800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A4EE-32D4-4FCC-B8A9-6FAAD1FD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35200" y="208584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41760" y="208584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428640" y="262836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35200" y="262836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241760" y="262836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070B-B631-4DAA-86DD-9249435B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3FD-E87E-471A-B791-FD7DED41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C96D-3859-47F1-B893-F2910ADA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FF20-B608-42F1-9048-ED1EF696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D17-8FBC-4DE3-8951-2AC0A584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864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5A04-A317-411B-81A9-85967CCD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1800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1A1E-4002-43EE-A9AF-7DE6FDEC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8640" y="2628360"/>
            <a:ext cx="56386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E4C2-5962-43DF-8852-C0A8B4BE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 (Hebrew)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DE52-A3C6-4835-A0F1-9F4FC1EABA1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 (Hebrew)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889E-7AE7-4FA7-B325-4E3197E433A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 rot="20475000">
            <a:off x="1413000" y="1941120"/>
            <a:ext cx="7754760" cy="19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5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0099"/>
                    </a:gs>
                    <a:gs pos="100000">
                      <a:srgbClr val="ffff00"/>
                    </a:gs>
                  </a:gsLst>
                  <a:lin ang="8100000"/>
                </a:gradFill>
                <a:latin typeface="Times New Roman"/>
              </a:rPr>
              <a:t>HEMATURIA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0099"/>
                  </a:gs>
                  <a:gs pos="100000">
                    <a:srgbClr val="ffff00"/>
                  </a:gs>
                </a:gsLst>
                <a:lin ang="81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68320" y="444600"/>
            <a:ext cx="7407360" cy="5967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96000" y="1916280"/>
            <a:ext cx="187164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Glomerular versus extraglomerular bleeding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95280" y="1413000"/>
          <a:ext cx="8929800" cy="4978440"/>
        </p:xfrm>
        <a:graphic>
          <a:graphicData uri="http://schemas.openxmlformats.org/drawingml/2006/table">
            <a:tbl>
              <a:tblPr/>
              <a:tblGrid>
                <a:gridCol w="2806920"/>
                <a:gridCol w="3300480"/>
                <a:gridCol w="2822400"/>
              </a:tblGrid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9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Urinary finding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9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Glomerular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9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Extraglomerular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Red cell cas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May be pres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Abs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Red cell morpholog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Dysmorph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Unifor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Proteinur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May be pres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Abs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Clo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Abs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May be pres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Co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May be red or br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May be r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0773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685800"/>
            <a:ext cx="84247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979560"/>
            <a:ext cx="828036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0805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 Black"/>
              </a:rPr>
              <a:t>Causes of Hematur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Kidney disea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Lesions along the urinary tra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Conditions unrelated to kidney and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urinary tra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3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3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Hematuria not representing kidney or urinary tract disorde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Following exerci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Febrile disorder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Gastroenteritis with dehyd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Contamination from external genital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3059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Arial Black"/>
              </a:rPr>
              <a:t>Hematur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1557360"/>
            <a:ext cx="2129040" cy="1414440"/>
          </a:xfrm>
          <a:custGeom>
            <a:avLst/>
            <a:gdLst/>
            <a:ahLst/>
            <a:rect l="l" t="t" r="r" b="b"/>
            <a:pathLst>
              <a:path w="1341" h="891">
                <a:moveTo>
                  <a:pt x="1341" y="0"/>
                </a:moveTo>
                <a:lnTo>
                  <a:pt x="0" y="891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557360"/>
            <a:ext cx="2089080" cy="1511280"/>
          </a:xfrm>
          <a:custGeom>
            <a:avLst/>
            <a:gdLst/>
            <a:ahLst/>
            <a:rect l="l" t="t" r="r" b="b"/>
            <a:pathLst>
              <a:path w="1435" h="1052">
                <a:moveTo>
                  <a:pt x="0" y="0"/>
                </a:moveTo>
                <a:lnTo>
                  <a:pt x="1435" y="1052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3068640"/>
            <a:ext cx="453708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ient phenomen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little significanc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068640"/>
            <a:ext cx="269100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gn of ser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n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802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Renal causes of Hematuri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4680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Arial Black"/>
              </a:rPr>
              <a:t>Glomer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cc"/>
                </a:solidFill>
                <a:latin typeface="Arial Black"/>
              </a:rPr>
              <a:t>  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Acute Postinfectious Glomerulonephrit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IgA Nephropath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Hereditary Nephritis ( Alport syndrome)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Benign Recurrent or Persistent Hematuria ( Thin Membrane Disease )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Sporadi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Famili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Membranoproliferative Glomerulonephrit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Crescentic Glomerulonephrit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Lupus Nephrit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Nephritis of Henoch-Shönlein Purpu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Focal  Glomeruloscleros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Hemolityc-Uremic Syndro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851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Acute nephritic syndrom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ematuria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roteinuria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cc"/>
                </a:solidFill>
                <a:uFillTx/>
                <a:latin typeface="Times New Roman"/>
                <a:ea typeface="Arial Unicode MS"/>
              </a:rPr>
              <a:t>Reduced renal fun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yper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802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Renal causes of Hematuri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9467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Arial Black"/>
              </a:rPr>
              <a:t>Non-glomer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cc"/>
                </a:solidFill>
                <a:latin typeface="Arial Black"/>
              </a:rPr>
              <a:t>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Infection ( Pyelonephritis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Interstitial Nephri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Metabolic ( Uric Acid, Nephrocalcinosis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Renal Malformation ( Cystic Kidney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Tumors ( Wilm’s, Acute Leukemi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Idiopatic Hypercalci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Trau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0805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Causes of urinary tract related Hematuri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0000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Inf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Urolithi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Obstruction ( UPJ Stenosis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Drugs ( Cyclophosphamide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Tum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0802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Isolated Hematuria</a:t>
            </a:r>
            <a:br>
              <a:rPr sz="4000"/>
            </a:b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(microscopic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No other urinary abnorma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No renal insu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No evidence for systemic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cidence ( school-aged children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6%   -  single urine exa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.5-1% - repeated testing over 6-12 mon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0805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Etiologies of isolated </a:t>
            </a:r>
            <a:r>
              <a:rPr b="1" i="1" lang="en-US" sz="3600" spc="-1" strike="noStrike">
                <a:solidFill>
                  <a:srgbClr val="ffff00"/>
                </a:solidFill>
                <a:latin typeface="Arial Black"/>
              </a:rPr>
              <a:t>Hematuri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13096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Glomer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Benign Recurrent or Persistent Hematuri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Sporadi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Famili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IgA Nephropath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Alport syndro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PSAG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Non-glomer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Idiopathic Hypercalciur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ystic Kidney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Urinary Tract obstruc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Tumo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Traum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802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Hematuria with familial associat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13096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Glomerul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Benign Familial Hematur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Alport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Non-glomerul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Idiopathic Hypercalci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lycystic Kidney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Urolithia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Tum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802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Idiopathic Hypercalciur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Definition: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ium excretion &gt; 4 mg/kg/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rinary Ca/Creatinine &gt; 0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Possible mechanism of hematuria: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crocrystals damaging the tubular or mucosal epithelia. Resolution of hematuria with anticalciuric therap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bfc4a"/>
                </a:solidFill>
                <a:uFillTx/>
                <a:latin typeface="Arial Black"/>
              </a:rPr>
              <a:t>Alport syndrome</a:t>
            </a:r>
            <a:br>
              <a:rPr sz="4400"/>
            </a:br>
            <a:r>
              <a:rPr b="1" i="1" lang="en-US" sz="4400" spc="-1" strike="noStrike" u="sng">
                <a:solidFill>
                  <a:srgbClr val="ebfc4a"/>
                </a:solidFill>
                <a:uFillTx/>
                <a:latin typeface="Arial Black"/>
              </a:rPr>
              <a:t>- hereditary disorder of GB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X-linked domin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utosomal reces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utosomal domin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bfc4a"/>
                </a:solidFill>
                <a:uFillTx/>
                <a:latin typeface="Arial Black"/>
              </a:rPr>
              <a:t>Renal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00000" y="1412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Macro /Microhemat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Nephrotic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yper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Renal failure- 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Progressive or juvenile – 20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Nonprogressive – 40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ebfc4a"/>
                </a:solidFill>
                <a:uFillTx/>
                <a:latin typeface="Arial Black"/>
                <a:ea typeface="Arial Unicode MS"/>
              </a:rPr>
              <a:t>Classification of hematuri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Macroscopic   -  Microscop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Symptomatic   -  Symptoml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Transient  -  Persis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bfc4a"/>
                </a:solidFill>
                <a:uFillTx/>
                <a:latin typeface="Arial Black"/>
              </a:rPr>
              <a:t>Hearing defec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ensorineural bilat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Never congeni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Boys- 85% . Girls – 18% &lt; 15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Progression of hearing loss parallels renal impair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404640"/>
            <a:ext cx="808056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ebfc4a"/>
                </a:solidFill>
                <a:uFillTx/>
                <a:latin typeface="Arial Black"/>
              </a:rPr>
              <a:t>Diagnosis of Alport syndrom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ematuria with or without 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yper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Renal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Ocular defects – anterior lentico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Familial hemat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ensorineural hearing l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Progression to renal failure occurring in at least one affected su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26920" y="398520"/>
            <a:ext cx="749016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4059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705040" y="69228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PORT’S  SYNDR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bfc4a"/>
                </a:solidFill>
                <a:uFillTx/>
                <a:latin typeface="Arial Black"/>
              </a:rPr>
              <a:t>Familial benign essential hematur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Familial hematuria without proteinuria and without progression to renal failure or hearing de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Diffuse attenuation of the GBM  is usually considered the hallmark of the con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t’s non pathognomonic of  FBE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Arial Black"/>
              </a:rPr>
              <a:t>Contin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Autosomal dominant tra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Normal antigenicity of the GB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fc4a"/>
                </a:solidFill>
                <a:latin typeface="Arial Black"/>
              </a:rPr>
              <a:t>Thin basement membrane nephropat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Hemat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Attenuation of the GB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n children  may be Al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n adults m/p benign dis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5280" y="868320"/>
            <a:ext cx="828036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8320" y="333000"/>
            <a:ext cx="88153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 Black"/>
              </a:rPr>
              <a:t>HEREDITARY NEPHROPATHY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2492280"/>
            <a:ext cx="86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</a:t>
            </a: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Benign Familial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Hematu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226920" y="2060640"/>
            <a:ext cx="100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lport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987280" y="1413000"/>
            <a:ext cx="1368360" cy="863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1413000"/>
            <a:ext cx="1295640" cy="863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00280"/>
            <a:ext cx="6696000" cy="1079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33"/>
                </a:solidFill>
                <a:latin typeface="Arial Black"/>
                <a:ea typeface="Times New Roman"/>
              </a:rPr>
              <a:t>Overlap of histological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5084640"/>
            <a:ext cx="838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he prognosis appears to be depend more on the degree of clinical expression in other members of the family and less        on the histological find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7487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Evaluation of Hematuria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Arial Black"/>
              </a:rPr>
              <a:t>Histor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843680" cy="4419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4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Detailed review of family hi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matu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teinu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nal insuffic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af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Precipitating fa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erc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</a:t>
            </a: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bdominal 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ydronephr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elonephri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rolithia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27240" y="189000"/>
            <a:ext cx="46767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0802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Evaluation of Hematuria</a:t>
            </a:r>
            <a:br>
              <a:rPr sz="4000"/>
            </a:br>
            <a:r>
              <a:rPr b="1" i="1" lang="en-US" sz="3600" spc="-1" strike="noStrike">
                <a:solidFill>
                  <a:srgbClr val="ffff00"/>
                </a:solidFill>
                <a:latin typeface="Arial Black"/>
              </a:rPr>
              <a:t>Physical Examin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Growth fail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al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Ra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Abdomen: search for a mass or tender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External genitalia: blee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rau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0805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Work-up of a child with Hematuri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540720" cy="4465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5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hase I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Urinalysis ( sediment examination 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en-US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RBC’s morpholog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en-US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Urine cult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en-US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BUN, Creatinine, Proteins, Electrolyt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en-US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Antibodies against strept. &amp; other antige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en-US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Complement, ANF, Immunoglobuli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en-US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Renal U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en-US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Urinalysis of 1</a:t>
            </a:r>
            <a:r>
              <a:rPr b="1" i="1" lang="en-US" sz="3000" spc="-1" strike="noStrike" baseline="30000">
                <a:solidFill>
                  <a:srgbClr val="ffcc66"/>
                </a:solidFill>
                <a:latin typeface="Times New Roman"/>
                <a:ea typeface="Times New Roman"/>
              </a:rPr>
              <a:t>st</a:t>
            </a:r>
            <a:r>
              <a:rPr b="1" i="1" lang="en-US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degree relativ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en-US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24h urine collection: Ca, Creat.,Protein, U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hase II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1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Hearing test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Cystosco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Renal biopsy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3440" y="380520"/>
            <a:ext cx="80802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 Black"/>
              </a:rPr>
              <a:t>Isolated hematur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5360" y="1905120"/>
            <a:ext cx="8918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The child needs to be monitored for the appearance of new clinical sig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changes in the pattern or severity of hematur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If there is no change in the first year,observation at 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yearly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intervals is adequa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156520" cy="1447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40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Isolated hematuria</a:t>
            </a:r>
            <a:br>
              <a:rPr sz="4000"/>
            </a:br>
            <a:r>
              <a:rPr b="1" i="1" lang="en-US" sz="4400" spc="-1" strike="noStrike">
                <a:solidFill>
                  <a:srgbClr val="ffff00"/>
                </a:solidFill>
                <a:latin typeface="Arial Black"/>
              </a:rPr>
              <a:t>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Possible outcom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81565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Disappearance of hemat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Hematuria will persist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follow-up should be continu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The hematuria will no longer be “isolated” - further investig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ff00"/>
                </a:solidFill>
                <a:uFillTx/>
                <a:latin typeface="Arial Black"/>
              </a:rPr>
              <a:t>Hematuria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84360" y="1557360"/>
            <a:ext cx="2129040" cy="1414440"/>
          </a:xfrm>
          <a:custGeom>
            <a:avLst/>
            <a:gdLst/>
            <a:ahLst/>
            <a:rect l="l" t="t" r="r" b="b"/>
            <a:pathLst>
              <a:path w="1341" h="891">
                <a:moveTo>
                  <a:pt x="1341" y="0"/>
                </a:moveTo>
                <a:lnTo>
                  <a:pt x="0" y="891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557360"/>
            <a:ext cx="2089080" cy="1511280"/>
          </a:xfrm>
          <a:custGeom>
            <a:avLst/>
            <a:gdLst/>
            <a:ahLst/>
            <a:rect l="l" t="t" r="r" b="b"/>
            <a:pathLst>
              <a:path w="1435" h="1052">
                <a:moveTo>
                  <a:pt x="0" y="0"/>
                </a:moveTo>
                <a:lnTo>
                  <a:pt x="1435" y="1052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3068640"/>
            <a:ext cx="4537080" cy="1099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ransient phenomen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of little significance</a:t>
            </a:r>
            <a:r>
              <a:rPr b="1" i="1" lang="en-US" sz="28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3068640"/>
            <a:ext cx="2907000" cy="1099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Sign of seriou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renal diseas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Normal erythrocyte excretion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 0 – 425.000/12 h. ( mean – 65.750 )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i="1" lang="en-US" sz="2400" spc="-1" strike="noStrike">
                <a:solidFill>
                  <a:srgbClr val="ebfc4a"/>
                </a:solidFill>
                <a:latin typeface="Times New Roman"/>
                <a:ea typeface="Times New Roman"/>
              </a:rPr>
              <a:t>T.Addis; J.of Clin Invest, 1926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fc4a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bfc4a"/>
                </a:solidFill>
                <a:latin typeface="Times New Roman"/>
                <a:ea typeface="Times New Roman"/>
              </a:rPr>
              <a:t>Upper</a:t>
            </a: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mit in </a:t>
            </a: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 500.000 - 2.000.000/24h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0802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Detection &amp; quantification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of hematuri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Screening test ( dipsticks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0.02-0.03 mg/dL of Hb, myoglob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~5-20 RBC/mm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Semiquantitativ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centrifugation of  10-15 ml of ur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resuspention of sediment in 1 ml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idual ur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high-power micros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Counting chamber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the number of cells in 1 microliter of unspun ur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80805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 Black"/>
              </a:rPr>
              <a:t>Microscopic Hematur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Definition</a:t>
            </a:r>
            <a:r>
              <a:rPr b="1" i="1" lang="en-US" sz="36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 3-5 RBC/HP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 5 RBC/mm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 8000 RBC/m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955800"/>
            <a:ext cx="835344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723440" cy="5888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084720" y="1916280"/>
            <a:ext cx="165600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15:20:29Z</dcterms:created>
  <dc:creator>Влад</dc:creator>
  <dc:description/>
  <dc:language>en-US</dc:language>
  <cp:lastModifiedBy>arkady</cp:lastModifiedBy>
  <dcterms:modified xsi:type="dcterms:W3CDTF">2006-01-17T21:54:33Z</dcterms:modified>
  <cp:revision>60</cp:revision>
  <dc:subject/>
  <dc:title>HEMATURIA</dc:title>
</cp:coreProperties>
</file>