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8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EDC-9E52-49D2-90E4-9522E32B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314-4C3C-439C-9C6B-5527007C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8BF-3A02-4233-A7E4-911BFE57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03A-009A-4587-86EB-FDD6589B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E512-455A-44F8-B12D-407455C0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2765-B662-47A1-8A63-BC9EBA5B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8654-1B95-4D46-BEA9-E7FA522A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3B75-AF9C-45D5-8A94-0ACC6557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AD24-815E-4E03-9207-48C51A6C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2F4E-1FEC-4B50-A5BF-E3AE8577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51E6-ECC2-414F-A56E-19F5FF36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5F7-058B-43D8-8553-34204482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208F-5509-4522-A2F4-421C2DA6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79F8-91C1-4615-AD21-7139526E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7725-DF87-4D8E-B968-0EB4F193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0F86-680A-4CD8-8E3D-C72EB5B6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AA21-1F49-4F9C-ACDF-974194E5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548-3138-4AFD-8588-8B3B7820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0BB-0549-4762-BF76-BDECE07D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2D7-92E9-4CE2-90FD-7A326EAD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91F-E2E8-4A14-BFE4-54D15041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2BC-932E-4205-9F41-04E1B726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BF98-E6D4-4A0D-AFED-236FBD86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C44-392D-482A-861D-CD34A30F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0787-B833-41A9-AF65-B0A26CD9ABAA}" type="slidenum">
              <a:rPr b="0" lang="he-IL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30481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95B6-5F81-4252-B839-F3DA6B336A3E}" type="slidenum">
              <a:rPr b="0" lang="he-IL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aeae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cbi.nlm.nih.gov/entrez/utils/lofref.fcgi?PrId=3094&amp;uid=16205738&amp;db=pubmed&amp;url=http://dx.doi.org/10.1038/nm1319" TargetMode="External"/><Relationship Id="rId3" Type="http://schemas.openxmlformats.org/officeDocument/2006/relationships/hyperlink" Target="http://www.ncbi.nlm.nih.gov/entrez/utils/lofref.fcgi?PrId=3094&amp;uid=16205738&amp;db=pubmed&amp;url=http://dx.doi.org/10.1038/nm1319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033560"/>
            <a:ext cx="86421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cc3300"/>
                </a:solidFill>
                <a:latin typeface="La Bamba LET"/>
                <a:cs typeface="Guttman-Aram"/>
              </a:rPr>
              <a:t>מי אינו סובל      מחסר חיסוני ?!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La Bamba LET"/>
                <a:cs typeface="Guttman-Aram"/>
              </a:rPr>
              <a:t>פרופ' עמוס עציוני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1579680"/>
            <a:ext cx="84978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Good mutations in protection agains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infections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leveland Condensed"/>
                <a:ea typeface="David"/>
              </a:rPr>
              <a:t>CCR5 – AI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leveland Condensed"/>
                <a:ea typeface="David"/>
              </a:rPr>
              <a:t>DUFFY -  Malar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59080" y="476280"/>
            <a:ext cx="2357280" cy="583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4643280" y="549360"/>
          <a:ext cx="2040120" cy="557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549360"/>
                    <a:ext cx="2040120" cy="55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454040" y="189000"/>
            <a:ext cx="6142320" cy="6453000"/>
            <a:chOff x="1454040" y="189000"/>
            <a:chExt cx="6142320" cy="645300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1454040" y="189000"/>
              <a:ext cx="6142320" cy="64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476360" y="404640"/>
              <a:ext cx="352728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’Brien &amp; Nelson, Nat.Gen 2004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406440"/>
            <a:ext cx="184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394000"/>
            <a:ext cx="184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2160" y="3741840"/>
            <a:ext cx="2012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             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987880"/>
            <a:ext cx="184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0"/>
            <a:ext cx="9234360" cy="6858000"/>
            <a:chOff x="0" y="0"/>
            <a:chExt cx="9234360" cy="6858000"/>
          </a:xfrm>
        </p:grpSpPr>
        <p:sp>
          <p:nvSpPr>
            <p:cNvPr id="105" name=""/>
            <p:cNvSpPr/>
            <p:nvPr/>
          </p:nvSpPr>
          <p:spPr>
            <a:xfrm>
              <a:off x="0" y="0"/>
              <a:ext cx="923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33520" y="1219320"/>
              <a:ext cx="7848000" cy="683640"/>
              <a:chOff x="533520" y="1219320"/>
              <a:chExt cx="7848000" cy="683640"/>
            </a:xfrm>
          </p:grpSpPr>
          <p:sp>
            <p:nvSpPr>
              <p:cNvPr id="107" name=""/>
              <p:cNvSpPr/>
              <p:nvPr/>
            </p:nvSpPr>
            <p:spPr>
              <a:xfrm>
                <a:off x="533520" y="1219320"/>
                <a:ext cx="6621480" cy="68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at Med. 2005 Nov;11(11):1170-2. </a:t>
                </a:r>
                <a:endParaRPr b="0" lang="en-US" sz="2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155000" y="1219320"/>
                <a:ext cx="1226520" cy="68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533520" y="1981080"/>
              <a:ext cx="8305560" cy="24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 </a:t>
              </a:r>
              <a:br>
                <a:rPr sz="24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fficacy of short-term monotherapy with maraviroc, a new CCR5 antagonist, in patients infected with HIV-1.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10" name="" descr="Click here to read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2895480" y="228600"/>
              <a:ext cx="3886200" cy="777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282960" y="415800"/>
            <a:ext cx="979884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3300"/>
                </a:solidFill>
                <a:uFillTx/>
                <a:latin typeface="Cleveland Condensed"/>
                <a:ea typeface="David"/>
              </a:rPr>
              <a:t>Conventional PID classification: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Cleveland Condensed"/>
                <a:ea typeface="David"/>
              </a:rPr>
              <a:t>  </a:t>
            </a:r>
            <a:r>
              <a:rPr b="1" lang="en-US" sz="4800" spc="-1" strike="noStrike">
                <a:solidFill>
                  <a:srgbClr val="eaeaea"/>
                </a:solidFill>
                <a:latin typeface="Cleveland Condensed"/>
                <a:ea typeface="David"/>
              </a:rPr>
              <a:t>Cellular immune defects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Cleveland Condensed"/>
                <a:ea typeface="David"/>
              </a:rPr>
              <a:t>  </a:t>
            </a:r>
            <a:r>
              <a:rPr b="1" lang="en-US" sz="4800" spc="-1" strike="noStrike">
                <a:solidFill>
                  <a:srgbClr val="eaeaea"/>
                </a:solidFill>
                <a:latin typeface="Cleveland Condensed"/>
                <a:ea typeface="David"/>
              </a:rPr>
              <a:t>Humoral immune defects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Cleveland Condensed"/>
                <a:ea typeface="David"/>
              </a:rPr>
              <a:t>  </a:t>
            </a:r>
            <a:r>
              <a:rPr b="1" lang="en-US" sz="4800" spc="-1" strike="noStrike">
                <a:solidFill>
                  <a:srgbClr val="eaeaea"/>
                </a:solidFill>
                <a:latin typeface="Cleveland Condensed"/>
                <a:ea typeface="David"/>
              </a:rPr>
              <a:t>Complement defects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Cleveland Condensed"/>
                <a:ea typeface="David"/>
              </a:rPr>
              <a:t>  </a:t>
            </a:r>
            <a:r>
              <a:rPr b="1" lang="en-US" sz="4800" spc="-1" strike="noStrike">
                <a:solidFill>
                  <a:srgbClr val="eaeaea"/>
                </a:solidFill>
                <a:latin typeface="Cleveland Condensed"/>
                <a:ea typeface="David"/>
              </a:rPr>
              <a:t>Phagocyte defects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Cleveland Condensed"/>
                <a:ea typeface="David"/>
              </a:rPr>
              <a:t>  </a:t>
            </a:r>
            <a:r>
              <a:rPr b="1" lang="en-US" sz="4800" spc="-1" strike="noStrike">
                <a:solidFill>
                  <a:srgbClr val="eaeaea"/>
                </a:solidFill>
                <a:latin typeface="Cleveland Condensed"/>
                <a:ea typeface="David"/>
              </a:rPr>
              <a:t>etc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080" y="1805040"/>
            <a:ext cx="8962920" cy="2128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9080" y="4754520"/>
            <a:ext cx="378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leveland Condensed"/>
                <a:ea typeface="David"/>
              </a:rPr>
              <a:t>Journal clinical investigation Nov 2005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28600"/>
            <a:ext cx="8686800" cy="71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SEVERE COMBINED IMMUNODEFICIE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David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Reticulum Dysgenes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NK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ADA Def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B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  <a:ea typeface="David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RAG1 and 1 Def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NK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  <a:ea typeface="David"/>
              </a:rPr>
              <a:t>+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RAG 1 and 2 recombin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Tcell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  <a:ea typeface="David"/>
              </a:rPr>
              <a:t>–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3dadad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3dadad"/>
                </a:solidFill>
                <a:latin typeface="Times New Roman"/>
                <a:ea typeface="David"/>
              </a:rPr>
              <a:t>	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amma c chain Def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NK 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David"/>
              </a:rPr>
              <a:t>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B 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David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JAK 3 Def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NK 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David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David"/>
              </a:rPr>
              <a:t>IL-7R Def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Tcell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  <a:ea typeface="David"/>
              </a:rPr>
              <a:t>+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           B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  NK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  <a:ea typeface="David"/>
              </a:rPr>
              <a:t>+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David"/>
              </a:rPr>
              <a:t>Omen Syn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371600" y="2895120"/>
            <a:ext cx="685800" cy="6858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4114800"/>
            <a:ext cx="68580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514600" y="2057400"/>
            <a:ext cx="685800" cy="5335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90920" y="4571640"/>
            <a:ext cx="53316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5105520"/>
            <a:ext cx="53316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2971800"/>
            <a:ext cx="68580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676160"/>
            <a:ext cx="685800" cy="2286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2133720"/>
            <a:ext cx="609480" cy="304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995640" y="2819520"/>
            <a:ext cx="720720" cy="2491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276720"/>
            <a:ext cx="609840" cy="2286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962520" y="4266720"/>
            <a:ext cx="76176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4735440"/>
            <a:ext cx="723960" cy="217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5410080"/>
            <a:ext cx="6094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6095880"/>
            <a:ext cx="60948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6095880"/>
            <a:ext cx="60948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8000" y="44280"/>
            <a:ext cx="8893080" cy="69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The </a:t>
            </a:r>
            <a:r>
              <a:rPr b="1" i="1" lang="en-US" sz="4000" spc="-1" strike="noStrike" u="sng">
                <a:solidFill>
                  <a:srgbClr val="cc3300"/>
                </a:solidFill>
                <a:uFillTx/>
                <a:latin typeface="Cleveland Condensed"/>
                <a:ea typeface="David"/>
              </a:rPr>
              <a:t>same</a:t>
            </a: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 RAG1 mutation (R561H) –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Different clinical presenta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leveland Condensed"/>
                <a:ea typeface="David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Cleveland Condensed"/>
                <a:ea typeface="David"/>
              </a:rPr>
              <a:t>        </a:t>
            </a:r>
            <a:r>
              <a:rPr b="1" lang="en-US" sz="3200" spc="-1" strike="noStrike">
                <a:solidFill>
                  <a:srgbClr val="cc3300"/>
                </a:solidFill>
                <a:latin typeface="Cleveland Condensed"/>
                <a:ea typeface="David"/>
              </a:rPr>
              <a:t>Pt1           </a:t>
            </a:r>
            <a:r>
              <a:rPr b="1" lang="en-US" sz="3200" spc="-1" strike="noStrike">
                <a:solidFill>
                  <a:srgbClr val="cc3300"/>
                </a:solidFill>
                <a:latin typeface="Cleveland Condensed"/>
                <a:ea typeface="David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Cleveland Condensed"/>
                <a:ea typeface="David"/>
              </a:rPr>
              <a:t>    Pt2</a:t>
            </a:r>
            <a:r>
              <a:rPr b="1" lang="en-US" sz="3200" spc="-1" strike="noStrike">
                <a:solidFill>
                  <a:srgbClr val="cc3300"/>
                </a:solidFill>
                <a:latin typeface="Cleveland Condensed"/>
                <a:ea typeface="David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Cleveland Condensed"/>
                <a:ea typeface="David"/>
              </a:rPr>
              <a:t>          Pt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Symptoms        CMV, EBV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Staph sepsis 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          Dermatitis, Candida Erythroderma           — 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                      ++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                                      —</a:t>
            </a:r>
            <a:r>
              <a:rPr b="0" lang="en-US" sz="1200" spc="-1" strike="noStrike">
                <a:solidFill>
                  <a:srgbClr val="000000"/>
                </a:solidFill>
                <a:latin typeface="Cleveland Condensed"/>
                <a:ea typeface="David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Eosinophils              420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      4,550                                   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CD3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CD19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                  N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Mitogen response  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IgG                          N  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IgE                                                           190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Specific ab               +                              —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leveland Condensed"/>
                <a:ea typeface="Davi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—</a:t>
            </a:r>
            <a:r>
              <a:rPr b="0" lang="en-US" sz="1000" spc="-1" strike="noStrike">
                <a:solidFill>
                  <a:srgbClr val="000000"/>
                </a:solidFill>
                <a:latin typeface="Cleveland Condensed"/>
                <a:ea typeface="Davi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Diagnosis                 ?                              Omen Syn                         classical AR SC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JCI 2005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340000" y="3068640"/>
            <a:ext cx="5040360" cy="1439640"/>
            <a:chOff x="2340000" y="3068640"/>
            <a:chExt cx="5040360" cy="1439640"/>
          </a:xfrm>
        </p:grpSpPr>
        <p:sp>
          <p:nvSpPr>
            <p:cNvPr id="133" name=""/>
            <p:cNvSpPr/>
            <p:nvPr/>
          </p:nvSpPr>
          <p:spPr>
            <a:xfrm>
              <a:off x="2340000" y="306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56000" y="306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00720" y="306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80360" y="306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37440" y="306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93080" y="306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6000" y="3355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93080" y="3355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7440" y="3355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40000" y="3645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56000" y="3645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00720" y="3645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37440" y="3645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3080" y="3645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56000" y="39322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00720" y="39322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93080" y="39322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37440" y="39322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7093080" y="4219560"/>
              <a:ext cx="144360" cy="216000"/>
              <a:chOff x="7093080" y="4219560"/>
              <a:chExt cx="144360" cy="216000"/>
            </a:xfrm>
          </p:grpSpPr>
          <p:sp>
            <p:nvSpPr>
              <p:cNvPr id="152" name=""/>
              <p:cNvSpPr/>
              <p:nvPr/>
            </p:nvSpPr>
            <p:spPr>
              <a:xfrm>
                <a:off x="7237440" y="42195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93080" y="42195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340000" y="4292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50920" y="206064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537372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8000" y="1446120"/>
            <a:ext cx="8893080" cy="375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00000" y="1117440"/>
            <a:ext cx="7775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leveland Condensed"/>
                <a:ea typeface="David"/>
              </a:rPr>
              <a:t>Monocyte-chemoattractant Protein-1(MCP-1) influences the level of IL-12 which is crucial for the normal immune defense against mycobacterium tuberculosis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590400"/>
            <a:ext cx="8820000" cy="61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3300"/>
                </a:solidFill>
                <a:uFillTx/>
                <a:latin typeface="Cleveland Condensed"/>
                <a:ea typeface="David"/>
              </a:rPr>
              <a:t>Patient 1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leveland Condensed"/>
                <a:ea typeface="Davi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leveland Condensed"/>
                <a:ea typeface="David"/>
              </a:rPr>
              <a:t>Lihi – 1y 4 month, parents not related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leveland Condensed"/>
                <a:ea typeface="Davi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leveland Condensed"/>
                <a:ea typeface="David"/>
              </a:rPr>
              <a:t>Normal development + immunization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leveland Condensed"/>
                <a:ea typeface="Davi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leveland Condensed"/>
                <a:ea typeface="David"/>
              </a:rPr>
              <a:t>No previous infection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leveland Condensed"/>
                <a:ea typeface="Davi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leveland Condensed"/>
                <a:ea typeface="David"/>
              </a:rPr>
              <a:t>3 days high fever + Meningeal sign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leveland Condensed"/>
                <a:ea typeface="Davi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leveland Condensed"/>
                <a:ea typeface="David"/>
              </a:rPr>
              <a:t>Purulent meningitis due to Step. Pneumoni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leveland Condensed"/>
                <a:ea typeface="Davi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leveland Condensed"/>
                <a:ea typeface="David"/>
              </a:rPr>
              <a:t>Full recovery with antibiotic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52360" y="1401840"/>
          <a:ext cx="8496360" cy="4800600"/>
        </p:xfrm>
        <a:graphic>
          <a:graphicData uri="http://schemas.openxmlformats.org/drawingml/2006/table">
            <a:tbl>
              <a:tblPr/>
              <a:tblGrid>
                <a:gridCol w="1982880"/>
                <a:gridCol w="1733400"/>
                <a:gridCol w="1438560"/>
                <a:gridCol w="1671480"/>
                <a:gridCol w="16700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l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y control (N=176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D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334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m. TB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435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valu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tes-47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ignifican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4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P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ignifican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P-1-251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411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leveland Condensed"/>
              </a:rPr>
              <a:t>M</a:t>
            </a:r>
            <a:r>
              <a:rPr b="1" lang="en-US" sz="3200" spc="-1" strike="noStrike" u="sng">
                <a:solidFill>
                  <a:srgbClr val="cc3300"/>
                </a:solidFill>
                <a:uFillTx/>
                <a:latin typeface="Cleveland Condensed"/>
              </a:rPr>
              <a:t>CP-1 genotype G is associate with pulmonary T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640" y="638172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M 202,2005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1028880"/>
            <a:ext cx="8642160" cy="4357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34920" y="666720"/>
            <a:ext cx="9144000" cy="6291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0"/>
            <a:ext cx="2556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108000" y="533520"/>
            <a:ext cx="284328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ocytes from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CP-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rtl="1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 AA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rtl="1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rtl="1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antibody (ab) Control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rtl="1"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rtl="1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type ab Contro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rtl="1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rtl="1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-MCP-1 neutralizing ab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Arial"/>
            </a:endParaRPr>
          </a:p>
          <a:p>
            <a:pPr rtl="1">
              <a:lnSpc>
                <a:spcPct val="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Arial"/>
            </a:endParaRPr>
          </a:p>
          <a:p>
            <a:pPr rtl="1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rtl="1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ocytes from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CP-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 GG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antibody (ab) Control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type ab Contro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-MCP-1 meutralizing ab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rtl="1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rtl="1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4560" y="-475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eutralization of MCP-1 increases IL-12Lp40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50920" y="549360"/>
          <a:ext cx="8534160" cy="5261040"/>
        </p:xfrm>
        <a:graphic>
          <a:graphicData uri="http://schemas.openxmlformats.org/drawingml/2006/table">
            <a:tbl>
              <a:tblPr/>
              <a:tblGrid>
                <a:gridCol w="2844720"/>
                <a:gridCol w="2938320"/>
                <a:gridCol w="2751120"/>
              </a:tblGrid>
              <a:tr h="7520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CP-1 and IL-12p40 levels in TB patients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P-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-12p4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A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G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G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valu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37600" y="6230880"/>
            <a:ext cx="48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es – Villanueva et al JEM 2005 (202;1649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8533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leveland Condensed"/>
              </a:rPr>
              <a:t>    </a:t>
            </a:r>
            <a:r>
              <a:rPr b="1" lang="en-US" sz="4400" spc="-1" strike="noStrike">
                <a:solidFill>
                  <a:srgbClr val="cc3300"/>
                </a:solidFill>
                <a:latin typeface="Cleveland Condensed"/>
              </a:rPr>
              <a:t>Conclusion: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leveland Condensed"/>
              </a:rPr>
              <a:t>   “</a:t>
            </a:r>
            <a:r>
              <a:rPr b="1" lang="en-US" sz="3600" spc="-1" strike="noStrike">
                <a:solidFill>
                  <a:srgbClr val="cc3300"/>
                </a:solidFill>
                <a:latin typeface="Cleveland Condensed"/>
              </a:rPr>
              <a:t>MCP-1 2518G has a dose effect on the of progression of TB infection to disease in Mexicans and Koreans”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leveland Condensed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Cleveland Condensed"/>
              </a:rPr>
              <a:t>Flores-Villanueva, JEM, 202, 200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8000" y="2427120"/>
            <a:ext cx="8856720" cy="1043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9640" y="4172040"/>
            <a:ext cx="32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leveland Condensed"/>
                <a:ea typeface="David"/>
              </a:rPr>
              <a:t>Journal clinical investigation 1998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8000" y="44280"/>
            <a:ext cx="8785080" cy="82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  </a:t>
            </a: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Rate of major chronic GI</a:t>
            </a: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  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  </a:t>
            </a: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complications in patients with CGD</a:t>
            </a: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 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  </a:t>
            </a: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with specific host defense  molecule</a:t>
            </a: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  </a:t>
            </a: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genotype</a:t>
            </a: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leveland Condensed"/>
                <a:ea typeface="David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Cleveland Condensed"/>
                <a:ea typeface="David"/>
              </a:rPr>
              <a:t>           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leveland Condensed"/>
                <a:ea typeface="David"/>
              </a:rPr>
              <a:t>Molecule</a:t>
            </a:r>
            <a:r>
              <a:rPr b="1" lang="en-US" sz="2800" spc="-1" strike="noStrike">
                <a:solidFill>
                  <a:srgbClr val="cc3300"/>
                </a:solidFill>
                <a:latin typeface="Cleveland Condensed"/>
                <a:ea typeface="David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Cleveland Condensed"/>
                <a:ea typeface="David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Cleveland Condensed"/>
                <a:ea typeface="David"/>
              </a:rPr>
              <a:t>        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leveland Condensed"/>
                <a:ea typeface="David"/>
              </a:rPr>
              <a:t>Associ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MPO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P=0.00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leveland Condensed"/>
                <a:ea typeface="David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R III b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P=0.00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leveland Condensed"/>
                <a:ea typeface="David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R II b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P=0.0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IL-1R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P=0.3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TNF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P=0.4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MBL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P=0.55</a:t>
            </a:r>
            <a:r>
              <a:rPr b="0" lang="en-US" sz="2800" spc="-1" strike="noStrike">
                <a:solidFill>
                  <a:srgbClr val="000000"/>
                </a:solidFill>
                <a:latin typeface="Cleveland Condensed"/>
                <a:ea typeface="David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leveland Condensed"/>
                <a:ea typeface="David"/>
              </a:rPr>
              <a:t>JCI 1998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280" y="1700280"/>
            <a:ext cx="896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leveland Condensed"/>
                <a:ea typeface="David"/>
              </a:rPr>
              <a:t>IgA deficiency – Immunodeficient 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leveland Condensed"/>
                <a:ea typeface="David"/>
              </a:rPr>
              <a:t>Dying from infection with no defect – Immunocompentent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24000" y="-27000"/>
            <a:ext cx="8569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Immunocompetant – The ability to mount a normal immune response to a pathogen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Cleveland Condensed"/>
                <a:ea typeface="David"/>
              </a:rPr>
              <a:t>Immunodeficiency</a:t>
            </a:r>
            <a:r>
              <a:rPr b="0" lang="en-US" sz="4000" spc="-1" strike="noStrike">
                <a:solidFill>
                  <a:srgbClr val="eaeaea"/>
                </a:solidFill>
                <a:latin typeface="Cleveland Condensed"/>
                <a:ea typeface="David"/>
              </a:rPr>
              <a:t> – </a:t>
            </a:r>
            <a:r>
              <a:rPr b="1" i="1" lang="en-US" sz="4000" spc="-1" strike="noStrike" u="sng">
                <a:solidFill>
                  <a:srgbClr val="eaeaea"/>
                </a:solidFill>
                <a:uFillTx/>
                <a:latin typeface="Cleveland Condensed"/>
                <a:ea typeface="David"/>
              </a:rPr>
              <a:t>classical</a:t>
            </a:r>
            <a:r>
              <a:rPr b="1" lang="en-US" sz="4000" spc="-1" strike="noStrike" u="sng">
                <a:solidFill>
                  <a:srgbClr val="eaeaea"/>
                </a:solidFill>
                <a:uFillTx/>
                <a:latin typeface="Cleveland Condensed"/>
                <a:ea typeface="David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Cleveland Condensed"/>
                <a:ea typeface="David"/>
              </a:rPr>
              <a:t> definition – A patient with a known defect in the immune system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ntique Oakland"/>
                <a:ea typeface="David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ntique Oakland"/>
                <a:ea typeface="David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ntique Oakland"/>
                <a:ea typeface="David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ntique Oakland"/>
                <a:ea typeface="David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ntique Oakland"/>
                <a:ea typeface="David"/>
              </a:rPr>
              <a:t>              </a:t>
            </a:r>
            <a:r>
              <a:rPr b="0" lang="en-US" sz="4000" spc="-1" strike="noStrike">
                <a:solidFill>
                  <a:srgbClr val="eaeaea"/>
                </a:solidFill>
                <a:latin typeface="Antique Oakland"/>
                <a:ea typeface="David"/>
              </a:rPr>
              <a:t> –</a:t>
            </a:r>
            <a:r>
              <a:rPr b="0" lang="en-US" sz="4000" spc="-1" strike="noStrike">
                <a:solidFill>
                  <a:srgbClr val="eaeaea"/>
                </a:solidFill>
                <a:latin typeface="Cleveland Condensed"/>
                <a:ea typeface="David"/>
              </a:rPr>
              <a:t> </a:t>
            </a:r>
            <a:r>
              <a:rPr b="1" i="1" lang="en-US" sz="4000" spc="-1" strike="noStrike" u="sng">
                <a:solidFill>
                  <a:srgbClr val="eaeaea"/>
                </a:solidFill>
                <a:uFillTx/>
                <a:latin typeface="Cleveland Condensed"/>
                <a:ea typeface="David"/>
              </a:rPr>
              <a:t>proposed</a:t>
            </a:r>
            <a:r>
              <a:rPr b="1" lang="en-US" sz="4000" spc="-1" strike="noStrike" u="sng">
                <a:solidFill>
                  <a:srgbClr val="eaeaea"/>
                </a:solidFill>
                <a:uFillTx/>
                <a:latin typeface="Cleveland Condensed"/>
                <a:ea typeface="David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Cleveland Condensed"/>
                <a:ea typeface="David"/>
              </a:rPr>
              <a:t> definition – A patient who does not survive on infectious episode.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0000" y="404640"/>
            <a:ext cx="77788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leveland Condensed"/>
                <a:ea typeface="David"/>
              </a:rPr>
              <a:t>Non conventional PID classification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leveland Condensed"/>
                <a:ea typeface="David"/>
              </a:rPr>
              <a:t>Host defect towards specific pathoge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Cleveland Condensed"/>
                <a:ea typeface="David"/>
              </a:rPr>
              <a:t>“</a:t>
            </a:r>
            <a:r>
              <a:rPr b="0" lang="en-US" sz="4800" spc="-1" strike="noStrike">
                <a:solidFill>
                  <a:srgbClr val="eaeaea"/>
                </a:solidFill>
                <a:latin typeface="Cleveland Condensed"/>
                <a:ea typeface="David"/>
              </a:rPr>
              <a:t>Mendelian susceptibility to  mycobacterial diseases”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Cleveland Condensed"/>
                <a:ea typeface="David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85680"/>
            <a:ext cx="8893080" cy="77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3300"/>
                </a:solidFill>
                <a:uFillTx/>
                <a:latin typeface="Cleveland Condensed"/>
                <a:ea typeface="David"/>
              </a:rPr>
              <a:t>Patient 2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2 healthy sibling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Parents not relat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6 month of age-pneumococcal meningit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1y osteomyelit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From 1y up to now 8 years old-  normal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development no infec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Normal C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Humoral immunity: IgG+A+M serum levels and specific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antibody response (including polysaccharides + ant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pneumococcal antibodies) – norma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Cellular Immunity: T cell subsets and mitogen response -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leveland Condensed"/>
                <a:ea typeface="David"/>
              </a:rPr>
              <a:t>norma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976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rot="20028000">
            <a:off x="4952880" y="3581280"/>
            <a:ext cx="177840" cy="685800"/>
          </a:xfrm>
          <a:prstGeom prst="rect">
            <a:avLst/>
          </a:prstGeom>
          <a:solidFill>
            <a:srgbClr val="336699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3120" y="35053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Black"/>
              </a:rPr>
              <a:t>STAT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0028000">
            <a:off x="5334120" y="4724280"/>
            <a:ext cx="177840" cy="68580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31720" y="4495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Black"/>
              </a:rPr>
              <a:t>NEM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3876600">
            <a:off x="5354640" y="5756400"/>
            <a:ext cx="457200" cy="380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80160" y="579132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Black"/>
              </a:rPr>
              <a:t>TL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1828800"/>
            <a:ext cx="685800" cy="533520"/>
          </a:xfrm>
          <a:prstGeom prst="irregularSeal2">
            <a:avLst/>
          </a:prstGeom>
          <a:solidFill>
            <a:srgbClr val="cc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3733920"/>
            <a:ext cx="685800" cy="533160"/>
          </a:xfrm>
          <a:prstGeom prst="irregularSeal2">
            <a:avLst/>
          </a:prstGeom>
          <a:solidFill>
            <a:srgbClr val="cc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2743200"/>
            <a:ext cx="685800" cy="533520"/>
          </a:xfrm>
          <a:prstGeom prst="irregularSeal2">
            <a:avLst/>
          </a:prstGeom>
          <a:solidFill>
            <a:srgbClr val="cc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2819520"/>
            <a:ext cx="685800" cy="533160"/>
          </a:xfrm>
          <a:prstGeom prst="irregularSeal2">
            <a:avLst/>
          </a:prstGeom>
          <a:solidFill>
            <a:srgbClr val="cc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3657600"/>
            <a:ext cx="685800" cy="533520"/>
          </a:xfrm>
          <a:prstGeom prst="irregularSeal2">
            <a:avLst/>
          </a:prstGeom>
          <a:solidFill>
            <a:srgbClr val="cc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5440" y="1268280"/>
            <a:ext cx="97362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leveland Condensed"/>
              </a:rPr>
              <a:t>Differential Modulation of endotoxi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leveland Condensed"/>
              </a:rPr>
              <a:t>responsiveness by human caspare-12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leveland Condensed"/>
              </a:rPr>
              <a:t>polymorphisms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leveland Condensed"/>
              </a:rPr>
              <a:t>Saleh M et al  Nature 429, 75, 200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1103400"/>
            <a:ext cx="8770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leveland Condensed"/>
              </a:rPr>
              <a:t>Caspases mediate essential key proteolytic events in the inflammatory cascades (cytokine maturation -1-4-5) and in the apoptotic cell pathway (-2-3-6-7-</a:t>
            </a:r>
            <a:r>
              <a:rPr b="1" i="1" lang="en-US" sz="3600" spc="-1" strike="noStrike" u="sng">
                <a:solidFill>
                  <a:srgbClr val="cc3300"/>
                </a:solidFill>
                <a:uFillTx/>
                <a:latin typeface="Cleveland Condensed"/>
              </a:rPr>
              <a:t>8 </a:t>
            </a:r>
            <a:r>
              <a:rPr b="1" lang="en-US" sz="3600" spc="-1" strike="noStrike">
                <a:solidFill>
                  <a:srgbClr val="cc3300"/>
                </a:solidFill>
                <a:latin typeface="Cleveland Condensed"/>
              </a:rPr>
              <a:t>-9-</a:t>
            </a:r>
            <a:r>
              <a:rPr b="1" i="1" lang="en-US" sz="3600" spc="-1" strike="noStrike" u="sng">
                <a:solidFill>
                  <a:srgbClr val="cc3300"/>
                </a:solidFill>
                <a:uFillTx/>
                <a:latin typeface="Cleveland Condensed"/>
              </a:rPr>
              <a:t>10</a:t>
            </a:r>
            <a:r>
              <a:rPr b="1" lang="en-US" sz="3600" spc="-1" strike="noStrike">
                <a:solidFill>
                  <a:srgbClr val="cc3300"/>
                </a:solidFill>
                <a:latin typeface="Cleveland Condensed"/>
              </a:rPr>
              <a:t>) 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leveland Condensed"/>
              </a:rPr>
              <a:t>Caspase 12 may therefore be  important in the host response to infections or in the pathogenesis of Alzheimer’s disease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832720" cy="3971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2160" cy="3573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3130560" cy="4824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270828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rease cytokine response to LPS from caspase 12L individual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713560" cy="2603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71640" y="551664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caspase 12 Is not involved in apopto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184680" y="388800"/>
            <a:ext cx="94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leveland Condensed"/>
              </a:rPr>
              <a:t>Caspase-12 genotype and Alzheimer or severe seps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1413000"/>
          <a:ext cx="8424720" cy="4136760"/>
        </p:xfrm>
        <a:graphic>
          <a:graphicData uri="http://schemas.openxmlformats.org/drawingml/2006/table">
            <a:tbl>
              <a:tblPr/>
              <a:tblGrid>
                <a:gridCol w="2303280"/>
                <a:gridCol w="1728720"/>
                <a:gridCol w="1800360"/>
                <a:gridCol w="1440000"/>
                <a:gridCol w="1152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asp-12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etero-   Cas-12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mo-Casp-12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Reference group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(African American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499 (78.1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113 (18.1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11(1.8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62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Alzheim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141(76.7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40(21.7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3(1.6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18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Sepsi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23(60.5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11(29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leveland Condensed"/>
                        </a:rPr>
                        <a:t>4(10.5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(p=0.002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3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Death from sepsi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17%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leveland Condensed"/>
                        </a:rPr>
                        <a:t>54%                   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0920" y="1076400"/>
            <a:ext cx="8642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leveland Condensed"/>
                <a:ea typeface="David"/>
              </a:rPr>
              <a:t>“</a:t>
            </a:r>
            <a:r>
              <a:rPr b="0" lang="en-US" sz="5400" spc="-1" strike="noStrike">
                <a:solidFill>
                  <a:srgbClr val="ffffff"/>
                </a:solidFill>
                <a:latin typeface="Cleveland Condensed"/>
                <a:ea typeface="David"/>
              </a:rPr>
              <a:t>Inborn errors of immunity are – unfortunately but inevitably - the rule rather than the exception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leveland Condensed"/>
                <a:ea typeface="David"/>
              </a:rPr>
              <a:t>                  </a:t>
            </a:r>
            <a:r>
              <a:rPr b="0" i="1" lang="en-US" sz="3200" spc="-1" strike="noStrike">
                <a:solidFill>
                  <a:srgbClr val="cc3300"/>
                </a:solidFill>
                <a:latin typeface="Cleveland Condensed"/>
                <a:ea typeface="David"/>
              </a:rPr>
              <a:t>JL Casanova &amp; Abel 200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32000" y="1292400"/>
            <a:ext cx="6315120" cy="3865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360" y="5479920"/>
            <a:ext cx="42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eveland Condensed"/>
                <a:ea typeface="David"/>
              </a:rPr>
              <a:t>Science March 200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580000" y="5445000"/>
            <a:ext cx="356400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Proinflammatory Cytokin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49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404640"/>
            <a:ext cx="8642160" cy="67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3300"/>
                </a:solidFill>
                <a:uFillTx/>
                <a:latin typeface="Cleveland Condensed"/>
                <a:ea typeface="David"/>
              </a:rPr>
              <a:t>Decrease mortality due to: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eaeaea"/>
              </a:buClr>
              <a:buFont typeface="Cleveland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leveland Condensed"/>
                <a:ea typeface="David"/>
              </a:rPr>
              <a:t>Hygiene understanding – Mid 19</a:t>
            </a:r>
            <a:r>
              <a:rPr b="0" lang="en-US" sz="4000" spc="-1" strike="noStrike" baseline="30000">
                <a:solidFill>
                  <a:srgbClr val="eaeaea"/>
                </a:solidFill>
                <a:latin typeface="Cleveland Condensed"/>
                <a:ea typeface="David"/>
              </a:rPr>
              <a:t>th</a:t>
            </a:r>
            <a:r>
              <a:rPr b="0" lang="en-US" sz="4000" spc="-1" strike="noStrike">
                <a:solidFill>
                  <a:srgbClr val="eaeaea"/>
                </a:solidFill>
                <a:latin typeface="Cleveland Condensed"/>
                <a:ea typeface="David"/>
              </a:rPr>
              <a:t> century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eaeaea"/>
              </a:buClr>
              <a:buFont typeface="Cleveland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leveland Condensed"/>
                <a:ea typeface="David"/>
              </a:rPr>
              <a:t>Vaccination – Early 20</a:t>
            </a:r>
            <a:r>
              <a:rPr b="0" lang="en-US" sz="4000" spc="-1" strike="noStrike" baseline="30000">
                <a:solidFill>
                  <a:srgbClr val="eaeaea"/>
                </a:solidFill>
                <a:latin typeface="Cleveland Condensed"/>
                <a:ea typeface="David"/>
              </a:rPr>
              <a:t>th</a:t>
            </a:r>
            <a:r>
              <a:rPr b="0" lang="en-US" sz="4000" spc="-1" strike="noStrike">
                <a:solidFill>
                  <a:srgbClr val="eaeaea"/>
                </a:solidFill>
                <a:latin typeface="Cleveland Condensed"/>
                <a:ea typeface="David"/>
              </a:rPr>
              <a:t> century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eaeaea"/>
              </a:buClr>
              <a:buFont typeface="Cleveland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leveland Condensed"/>
                <a:ea typeface="David"/>
              </a:rPr>
              <a:t>Antibiotics – Early-mid 20</a:t>
            </a:r>
            <a:r>
              <a:rPr b="0" lang="en-US" sz="4000" spc="-1" strike="noStrike" baseline="30000">
                <a:solidFill>
                  <a:srgbClr val="eaeaea"/>
                </a:solidFill>
                <a:latin typeface="Cleveland Condensed"/>
                <a:ea typeface="David"/>
              </a:rPr>
              <a:t>th</a:t>
            </a:r>
            <a:r>
              <a:rPr b="0" lang="en-US" sz="4000" spc="-1" strike="noStrike">
                <a:solidFill>
                  <a:srgbClr val="eaeaea"/>
                </a:solidFill>
                <a:latin typeface="Cleveland Condensed"/>
                <a:ea typeface="David"/>
              </a:rPr>
              <a:t> century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Cleveland Condensed"/>
                <a:ea typeface="David"/>
              </a:rPr>
              <a:t>No genetic changes in last 100 years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44280"/>
            <a:ext cx="8599320" cy="77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leveland Condensed"/>
                <a:ea typeface="David"/>
              </a:rPr>
              <a:t>Genetic and environmental influences on premature death in adult adoptee.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Cleveland Condensed"/>
                <a:ea typeface="David"/>
              </a:rPr>
              <a:t>Sorensen T et al. NEJM 1988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leveland Condensed"/>
                <a:ea typeface="David"/>
              </a:rPr>
              <a:t>1003 adoptee born between 1924-1926 in Denmark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leveland Condensed"/>
                <a:ea typeface="David"/>
              </a:rPr>
              <a:t>The study compared causes of death in the adoptee and the biological or adoptive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levelan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leveland Condensed"/>
                <a:ea typeface="David"/>
              </a:rPr>
              <a:t>Cause of death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leveland Condensed"/>
                <a:ea typeface="David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Cleveland Condensed"/>
                <a:ea typeface="David"/>
              </a:rPr>
              <a:t>1)</a:t>
            </a:r>
            <a:r>
              <a:rPr b="0" lang="en-US" sz="3200" spc="-1" strike="noStrike">
                <a:solidFill>
                  <a:srgbClr val="ffffff"/>
                </a:solidFill>
                <a:latin typeface="Cleveland Condensed"/>
                <a:ea typeface="Davi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leveland Condensed"/>
                <a:ea typeface="David"/>
              </a:rPr>
              <a:t>Infections – biological par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leveland Condensed"/>
                <a:ea typeface="David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Cleveland Condensed"/>
                <a:ea typeface="David"/>
              </a:rPr>
              <a:t>2) Vascular – both biological and adoptive paren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leveland Condensed"/>
                <a:ea typeface="David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Cleveland Condensed"/>
                <a:ea typeface="David"/>
              </a:rPr>
              <a:t>3) Cancer – Adoptive paren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6302520" cy="652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06:23:09Z</dcterms:created>
  <dc:creator>miriam</dc:creator>
  <dc:description/>
  <dc:language>en-US</dc:language>
  <cp:lastModifiedBy> </cp:lastModifiedBy>
  <dcterms:modified xsi:type="dcterms:W3CDTF">2006-09-05T08:26:30Z</dcterms:modified>
  <cp:revision>95</cp:revision>
  <dc:subject/>
  <dc:title>Slide 1</dc:title>
</cp:coreProperties>
</file>