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832-BF81-40D8-8837-6F00862C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B87-0363-4BBF-B0F0-87268461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4ED-EE54-4817-9772-58F61521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923-3ACC-4182-9E39-46CDF36B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E0F2-08D8-49B5-A6BF-E7A276F0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D5F5-287E-425D-BDB6-E44123F7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490C-3D0E-4990-995E-A45E650B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1516-5465-4769-B63F-5C00E674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0D72-D734-477D-AAC8-1F6BFA9B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5D69-83B6-43BC-9FE0-F31EB5CE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754D-A07E-45AF-A3DD-FBCFE291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7BB-E0AA-4C54-B9E2-CC8060B3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D5EF-E567-4BAD-8D9A-D86C49C0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16AF-3853-4355-8241-700FD8F7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6B4D-A037-40E1-A593-4E62DC6B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9E2D-8A2A-4D6B-AB7A-EC9A09A1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028C-E8F0-4ABE-93D8-24DA0682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34D-52D1-4983-A1C0-A645DE43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B5B-A4B9-4624-BA8F-6501A678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3C0-5925-4CBD-AF31-6651FA04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462-B0AC-4465-B17B-3A15E86D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581-9AD5-4FCE-AB01-3176C01C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413-5E71-46DD-818E-EB0A5447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E4E-79E9-45A7-BE41-A7E3CC8A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ffffff"/>
                </a:solidFill>
                <a:latin typeface="Verdana"/>
                <a:ea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EC3A-6BA6-4C4C-B25B-41B61A0C45B6}" type="slidenum">
              <a:rPr b="0" lang="he-I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ffffff"/>
                </a:solidFill>
                <a:latin typeface="Verdana"/>
                <a:ea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693E-9EC6-48BC-9C1D-D9559F6F4D30}" type="slidenum">
              <a:rPr b="0" lang="he-I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25892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r. Jacob Genizi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r Eli Shah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hild Neurology Uni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yer Children Hospital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ambam Medical Center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aifa, Israel.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206064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14680" y="1092240"/>
            <a:ext cx="774756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Meta-Analysis of Pseudotumor Cerebri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in Prepubertal Children Vs adolescents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Differences in Sex Distribution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and Obesity Ra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611280" y="2997360"/>
          <a:ext cx="7993080" cy="2060280"/>
        </p:xfrm>
        <a:graphic>
          <a:graphicData uri="http://schemas.openxmlformats.org/drawingml/2006/table">
            <a:tbl>
              <a:tblPr/>
              <a:tblGrid>
                <a:gridCol w="1611360"/>
                <a:gridCol w="1485720"/>
                <a:gridCol w="2087640"/>
                <a:gridCol w="1297080"/>
                <a:gridCol w="1511280"/>
              </a:tblGrid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ge (years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umber patient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  /  F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Obes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.5-18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74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75/199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3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9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763640" y="692280"/>
            <a:ext cx="60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META –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PTC – Children  (Scott 199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Prepubertal children</a:t>
            </a:r>
            <a:br>
              <a:rPr sz="4800"/>
            </a:b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VS</a:t>
            </a:r>
            <a:br>
              <a:rPr sz="4800"/>
            </a:b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Adolescence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Our Data of PTC: 1995-200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4000" y="1916280"/>
          <a:ext cx="8229600" cy="4541760"/>
        </p:xfrm>
        <a:graphic>
          <a:graphicData uri="http://schemas.openxmlformats.org/drawingml/2006/table">
            <a:tbl>
              <a:tblPr/>
              <a:tblGrid>
                <a:gridCol w="1725480"/>
                <a:gridCol w="1408320"/>
                <a:gridCol w="1881000"/>
                <a:gridCol w="1519200"/>
                <a:gridCol w="16956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ge (years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umber patient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  /  F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Obes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/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-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/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%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/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3%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828440" y="2135160"/>
            <a:ext cx="57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Verdana"/>
                <a:ea typeface="Arial"/>
              </a:rPr>
              <a:t>LITERATURE  REVIEW 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Verdana"/>
                <a:ea typeface="Arial"/>
              </a:rPr>
              <a:t>PTC  IN  CHILDREN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0" y="473040"/>
          <a:ext cx="9144000" cy="6269040"/>
        </p:xfrm>
        <a:graphic>
          <a:graphicData uri="http://schemas.openxmlformats.org/drawingml/2006/table">
            <a:tbl>
              <a:tblPr/>
              <a:tblGrid>
                <a:gridCol w="1476360"/>
                <a:gridCol w="1224000"/>
                <a:gridCol w="1643040"/>
                <a:gridCol w="1305000"/>
                <a:gridCol w="1650960"/>
                <a:gridCol w="1844640"/>
              </a:tblGrid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uth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ge (year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umber patient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  /  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Obes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QMiriam"/>
                        </a:rPr>
                        <a:t>Shofer 1997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QMiriam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2-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8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2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N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12-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4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Verdana"/>
                          <a:ea typeface="Arial"/>
                        </a:rPr>
                        <a:t>N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QMiriam"/>
                        </a:rPr>
                        <a:t>Grace 1998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QMiriam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2-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6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4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10%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QMiriam"/>
                        </a:rPr>
                        <a:t>Paul 1998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QMiriam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0-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8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5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23.5%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12-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7/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6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9</a:t>
                      </a: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50%</a:t>
                      </a: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QMiriam"/>
                        </a:rPr>
                        <a:t>Balcer 1999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QMiriam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3-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7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5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43%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12-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2/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9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22</a:t>
                      </a: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85%</a:t>
                      </a: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QMiriam"/>
                        </a:rPr>
                        <a:t>Sotiris  200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QMiriam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3.5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12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2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QMiriam"/>
                        </a:rPr>
                        <a:t>7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QMiriam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QMiriam"/>
                        </a:rPr>
                        <a:t>20%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QMiriam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9-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8/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5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QMiriam"/>
                        </a:rPr>
                        <a:t>Kesler 200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QMiriam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2-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8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3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46%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12-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5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6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10</a:t>
                      </a: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72%</a:t>
                      </a: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  <a:ea typeface="Times New Roman"/>
              </a:rPr>
              <a:t>META – ANALYSIS</a:t>
            </a:r>
            <a:r>
              <a:rPr b="1" lang="en-US" sz="4400" spc="-1" strike="noStrike">
                <a:solidFill>
                  <a:srgbClr val="ccccff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39640" y="2205000"/>
          <a:ext cx="8229600" cy="3270240"/>
        </p:xfrm>
        <a:graphic>
          <a:graphicData uri="http://schemas.openxmlformats.org/drawingml/2006/table">
            <a:tbl>
              <a:tblPr/>
              <a:tblGrid>
                <a:gridCol w="1725840"/>
                <a:gridCol w="1407960"/>
                <a:gridCol w="1881360"/>
                <a:gridCol w="1519200"/>
                <a:gridCol w="1695240"/>
              </a:tblGrid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ge (years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umber patient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  /  F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Obes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0-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79/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4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19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26%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QMiriam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12-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1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36/1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7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47</a:t>
                      </a: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54%</a:t>
                      </a: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QMiriam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QMiriam"/>
                        </a:rPr>
                        <a:t>Total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QMiriam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QMiriam"/>
                        </a:rPr>
                        <a:t>2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QMiriam"/>
                        </a:rPr>
                        <a:t>115/1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QMiriam"/>
                        </a:rPr>
                        <a:t>5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QMiriam"/>
                        </a:rPr>
                        <a:t>66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QMiriam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QMiriam"/>
                        </a:rPr>
                        <a:t>41%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QMiriam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Pathophysiology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36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ults - Sex hormones and lipids' regulation in the female may play a role in the induction of P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ildren - Disordered CSF dynamic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Symptoms at presentation</a:t>
            </a:r>
            <a:br>
              <a:rPr sz="4000"/>
            </a:b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Adul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eadache (90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ausea &amp; vomiting (56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ouble vision (38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isual loss/ blurred vision (25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ore / stiff neck (9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hange in personality (9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thargy / anorexia (6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zziness (6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ainful ey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Symptoms at presentation- Child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cidental – Asymptomatic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tax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hotophob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yalg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nnit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imb numbn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Symptoms at presentation- Infa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70182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rritabil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omnol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creasing head si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Modified Dandy’s Criteria for the diagnosis of </a:t>
            </a:r>
            <a:br>
              <a:rPr sz="2800"/>
            </a:b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Idiopathic Intracranial Hypertens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igns and symptoms of increased intracranial hypertens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 localizing neurological sign other than papilledema or abducens nerve palsy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rmal neuroimaging studies other than empty sell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ocumented increased intracranial pressure (200 mm of water and higher) with normal fluid conte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xclusion of structural or systemic caus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mith JL</a:t>
            </a:r>
            <a:r>
              <a:rPr b="0" lang="he-IL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hence pseudotumor cerebri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n Neuroophthalmol. 1985 Mar;5(1):55-6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etazolamide (Diamox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tico-stero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mboperitoneal (LP) shun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tic nerve sheath fene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Conclusions:</a:t>
            </a: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Pseudotumor cerebri among prepubertal children bares different characteristics compared with adolescents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ys affected more frequently than girls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current obesity is significantly less common in pre-pubertal children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Arial"/>
              </a:rPr>
              <a:t>Pseudotumor Cerebr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436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Arial"/>
              </a:rPr>
              <a:t>Idiopathic Intracranial Hypertensio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Etiology (PTC)</a:t>
            </a: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Verdana"/>
              </a:rPr>
              <a:t>Metabolic and endocrine disorders</a:t>
            </a:r>
            <a:r>
              <a:rPr b="0" lang="en-US" sz="3200" spc="-1" strike="noStrike">
                <a:solidFill>
                  <a:srgbClr val="cccc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ypoparathyroidis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ypothyroidis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tamin D deficiency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dison, Congenital adrenal hyperplasi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narch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cc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eatment or cessation of corticosteroi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Etiology (PTC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412640"/>
            <a:ext cx="6826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titis medi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oiditi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us vein thrombosi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Verdana"/>
              </a:rPr>
              <a:t>Hematologic disturbanc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ron deficiency Anem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molysi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olycytemi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Etiology (PTC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6912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Verdana"/>
              </a:rPr>
              <a:t>Medic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alidixic ac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iprofloxac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tracycline, minocycl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tamin 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H therap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yroid replacement therap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Etiology (IIH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2707920"/>
            <a:ext cx="824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Verdana"/>
              </a:rPr>
              <a:t>Miscellaneous or </a:t>
            </a:r>
            <a:r>
              <a:rPr b="1" lang="en-US" sz="3200" spc="-1" strike="noStrike">
                <a:solidFill>
                  <a:srgbClr val="ff9966"/>
                </a:solidFill>
                <a:latin typeface="Verdana"/>
              </a:rPr>
              <a:t>Risk Factors</a:t>
            </a:r>
            <a:r>
              <a:rPr b="1" lang="en-US" sz="3200" spc="-1" strike="noStrike">
                <a:solidFill>
                  <a:srgbClr val="ccccff"/>
                </a:solidFill>
                <a:latin typeface="Verdana"/>
              </a:rPr>
              <a:t> ?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omen of reproductive ag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esity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2708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ADULTS</a:t>
            </a:r>
            <a:br>
              <a:rPr sz="4400"/>
            </a:b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VS </a:t>
            </a:r>
            <a:br>
              <a:rPr sz="4400"/>
            </a:b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CHILD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8600" y="1523880"/>
            <a:ext cx="8763120" cy="4800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66cc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ccccff"/>
                </a:solidFill>
                <a:latin typeface="Arial"/>
                <a:cs typeface="David"/>
              </a:rPr>
              <a:t>הבדלים עיקריים בין ילדים </a:t>
            </a:r>
            <a:br>
              <a:rPr sz="4000"/>
            </a:br>
            <a:r>
              <a:rPr b="1" lang="he-IL" sz="4000" spc="-1" strike="noStrike">
                <a:solidFill>
                  <a:srgbClr val="ccccff"/>
                </a:solidFill>
                <a:latin typeface="Arial"/>
                <a:cs typeface="David"/>
              </a:rPr>
              <a:t>לבין מבוגרי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Verdana"/>
                <a:ea typeface="David"/>
              </a:rPr>
              <a:t>                                       מבוגרים                         ילדים ותינוקות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 algn="r" rtl="1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Verdana"/>
                <a:cs typeface="David"/>
              </a:rPr>
              <a:t>מגדר      </a:t>
            </a:r>
            <a:r>
              <a:rPr b="1" lang="he-IL" sz="2400" spc="-1" strike="noStrike">
                <a:solidFill>
                  <a:srgbClr val="ffff00"/>
                </a:solidFill>
                <a:latin typeface="Verdana"/>
                <a:ea typeface="David"/>
              </a:rPr>
              <a:t>	</a:t>
            </a:r>
            <a:r>
              <a:rPr b="1" lang="he-IL" sz="2400" spc="-1" strike="noStrike">
                <a:solidFill>
                  <a:srgbClr val="ffff00"/>
                </a:solidFill>
                <a:latin typeface="Verdana"/>
                <a:ea typeface="David"/>
              </a:rPr>
              <a:t>             נשים בד”כ                         בנים = בנות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 algn="r" rtl="1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David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 algn="r" rtl="1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Verdana"/>
                <a:cs typeface="David"/>
              </a:rPr>
              <a:t>השמנת יתר</a:t>
            </a:r>
            <a:r>
              <a:rPr b="1" lang="he-IL" sz="2400" spc="-1" strike="noStrike">
                <a:solidFill>
                  <a:srgbClr val="ffff00"/>
                </a:solidFill>
                <a:latin typeface="Verdana"/>
                <a:ea typeface="David"/>
              </a:rPr>
              <a:t>	</a:t>
            </a:r>
            <a:r>
              <a:rPr b="1" lang="he-IL" sz="2400" spc="-1" strike="noStrike">
                <a:solidFill>
                  <a:srgbClr val="ffff00"/>
                </a:solidFill>
                <a:latin typeface="Verdana"/>
                <a:ea typeface="David"/>
              </a:rPr>
              <a:t>          "גורם סיכון" חשוב         </a:t>
            </a:r>
            <a:r>
              <a:rPr b="1" lang="he-IL" sz="2400" spc="-1" strike="noStrike">
                <a:solidFill>
                  <a:srgbClr val="ffff00"/>
                </a:solidFill>
                <a:latin typeface="Verdana"/>
                <a:ea typeface="David"/>
              </a:rPr>
              <a:t>	</a:t>
            </a:r>
            <a:r>
              <a:rPr b="1" lang="he-IL" sz="2400" spc="-1" strike="noStrike">
                <a:solidFill>
                  <a:srgbClr val="ffff00"/>
                </a:solidFill>
                <a:latin typeface="Verdana"/>
                <a:ea typeface="David"/>
              </a:rPr>
              <a:t> לא מהווה גורם סיכון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 algn="ctr" rtl="1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Verdana"/>
                <a:ea typeface="David"/>
              </a:rPr>
              <a:t>                    פי </a:t>
            </a:r>
            <a:r>
              <a:rPr b="1" lang="he-IL" sz="2400" spc="-1" strike="noStrike">
                <a:solidFill>
                  <a:srgbClr val="ffff00"/>
                </a:solidFill>
                <a:latin typeface="Verdana"/>
                <a:ea typeface="David"/>
              </a:rPr>
              <a:t>10-20</a:t>
            </a:r>
            <a:r>
              <a:rPr b="1" lang="he-IL" sz="2400" spc="-1" strike="noStrike">
                <a:solidFill>
                  <a:srgbClr val="ffff00"/>
                </a:solidFill>
                <a:latin typeface="Verdana"/>
                <a:ea typeface="David"/>
              </a:rPr>
              <a:t>                    משמעות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 algn="ctr" rtl="1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Verdana"/>
                <a:cs typeface="David"/>
              </a:rPr>
              <a:t>ביטוי קליני                      כאבי ראש                         אי-שקט, אפטיה, ישנוניות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 algn="ctr" rtl="1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Verdana"/>
                <a:ea typeface="David"/>
              </a:rPr>
              <a:t>                                                                         חולשה של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David"/>
              </a:rPr>
              <a:t>C.N. 6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David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 algn="ctr" rtl="1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David"/>
              </a:rPr>
              <a:t>                                                                         </a:t>
            </a:r>
            <a:r>
              <a:rPr b="1" lang="he-IL" sz="2400" spc="-1" strike="noStrike">
                <a:solidFill>
                  <a:srgbClr val="ffff00"/>
                </a:solidFill>
                <a:latin typeface="Verdana"/>
                <a:cs typeface="David"/>
              </a:rPr>
              <a:t>פזילה, חולשה של </a:t>
            </a:r>
            <a:r>
              <a:rPr b="1" lang="he-IL" sz="2400" spc="-1" strike="noStrike">
                <a:solidFill>
                  <a:srgbClr val="ffff00"/>
                </a:solidFill>
                <a:latin typeface="Verdana"/>
                <a:ea typeface="David"/>
              </a:rPr>
              <a:t>C.N. 7</a:t>
            </a:r>
            <a:r>
              <a:rPr b="1" lang="he-IL" sz="2400" spc="-1" strike="noStrike">
                <a:solidFill>
                  <a:srgbClr val="ffff00"/>
                </a:solidFill>
                <a:latin typeface="Verdana"/>
                <a:ea typeface="David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 algn="ctr" rtl="1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David"/>
              </a:rPr>
              <a:t>                                                                         כאבי גב וצואר, כאבי ראש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 algn="ctr" rtl="1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David"/>
              </a:rPr>
              <a:t>Papilledema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David"/>
              </a:rPr>
              <a:t>                          </a:t>
            </a:r>
            <a:r>
              <a:rPr b="1" lang="he-IL" sz="2400" spc="-1" strike="noStrike">
                <a:solidFill>
                  <a:srgbClr val="ffff00"/>
                </a:solidFill>
                <a:latin typeface="Verdana"/>
                <a:cs typeface="David"/>
              </a:rPr>
              <a:t>כן                        כשמרפסים או סוטורות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 algn="ctr" rtl="1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Verdana"/>
                <a:ea typeface="David"/>
              </a:rPr>
              <a:t>                                                                         קרניאליות פתוחים, בד”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 algn="ctr" rtl="1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Verdana"/>
                <a:ea typeface="David"/>
              </a:rPr>
              <a:t>                                                                         אין פפילאדמה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981080"/>
            <a:ext cx="876312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743200"/>
            <a:ext cx="876312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876312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5105520"/>
            <a:ext cx="876312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1523880"/>
            <a:ext cx="0" cy="480060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523880"/>
            <a:ext cx="0" cy="480060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23:38Z</dcterms:created>
  <dc:creator>GETRONICS</dc:creator>
  <dc:description/>
  <dc:language>en-US</dc:language>
  <cp:lastModifiedBy>Zakai</cp:lastModifiedBy>
  <dcterms:modified xsi:type="dcterms:W3CDTF">2007-01-11T10:00:00Z</dcterms:modified>
  <cp:revision>48</cp:revision>
  <dc:subject/>
  <dc:title>הצגת מקרה</dc:title>
</cp:coreProperties>
</file>