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wmf" ContentType="image/x-wmf"/>
  <Override PartName="/ppt/media/image44.jpeg" ContentType="image/jpeg"/>
  <Override PartName="/ppt/media/image38.jpeg" ContentType="image/jpeg"/>
  <Override PartName="/ppt/media/image49.png" ContentType="image/png"/>
  <Override PartName="/ppt/media/image51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19.jpeg" ContentType="image/jpeg"/>
  <Override PartName="/ppt/media/image56.png" ContentType="image/png"/>
  <Override PartName="/ppt/media/image58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35.wmf" ContentType="image/x-wmf"/>
  <Override PartName="/ppt/media/image30.jpeg" ContentType="image/jpeg"/>
  <Override PartName="/ppt/media/image33.png" ContentType="image/png"/>
  <Override PartName="/ppt/media/image13.jpeg" ContentType="image/jpeg"/>
  <Override PartName="/ppt/media/image23.png" ContentType="image/png"/>
  <Override PartName="/ppt/media/image55.jpeg" ContentType="image/jpeg"/>
  <Override PartName="/ppt/media/image12.jpeg" ContentType="image/jpeg"/>
  <Override PartName="/ppt/media/image11.png" ContentType="image/pn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86A-56D5-4561-AA65-955FF18A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721-681F-464D-8FD5-8006ECFC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7FD-6702-430E-875B-B313349C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0E-1054-446B-9C99-B1C6CCF6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65B-8561-4B5C-99E6-F659DCD1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971-E2B9-4C94-A821-228FBF6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186-B495-4BDF-B700-8CDC814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112-99E9-48AC-BDF4-52B6757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0B4-6196-4E18-B7CD-1BCDB90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271-ACDD-4386-AF10-58823ED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994-F58C-46BF-A6B5-802D4AF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63B-EDB2-4934-B832-DA83530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1BE3-0164-4D8E-A29F-14E25B2B28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www.emedicine.com/cgi-bin/foxweb.exe/makezoom@/em/makezoom?picture=%5Cwebsites%5Cemedicine%5Cderm%5Cimages%5CLarge%5C1315131511.jpg&amp;template=izoom2" TargetMode="External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3733920"/>
            <a:ext cx="518148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Kessel Aharon , Department of Allergy and Clinical Immunology Bnai-Zion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8380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HRONIC AND ACUTE URTICARIA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57 children  age range 1-3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3520"/>
            <a:ext cx="883908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esumptive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ral infection 18 cases (12 associated with drug inta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enovirus       EBV        Enterovirus          R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TA virus                Varicella-Zoster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TERIAL INFECTION  1 CASE– E.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OD -6 cas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bable ca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27 cases)–  vir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rtureux P, et al Archives of dermatology 1998;143:319-23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fecti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herpes simplex, hepatitis 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xsackie A and B, upper respiratory  inf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teri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associated with certain infectious foci: dental caries/abscesses, pharyngitis /tonsillitis, otitis media, occult abscesses, 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asiti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ascaris, strongyloides, echinococcus, toxocara, fasciola, filaria, schisto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ngal?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posure to food allergens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, eggs, peanu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ame ,soy wheat, shellfish,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ications-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lactam antibiotics, sulfonamides, aspi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diocontrast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nesselfieber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2286000"/>
            <a:ext cx="495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האם מתן קורטיקוסטרואידים בנוסף לאנטיהיסטמיניקה עוזר בטיפול ב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962520" cy="32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ילדה ב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מגיעה לחדר מיון עם אוטיקריה,  היא מטופלת ע"י רופא מטפל באנטיהיסטמינקה למרות כך עדיין הפריחה קיימ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rticaria2" descr=""/>
          <p:cNvPicPr/>
          <p:nvPr/>
        </p:nvPicPr>
        <p:blipFill>
          <a:blip r:embed="rId2"/>
          <a:stretch/>
        </p:blipFill>
        <p:spPr>
          <a:xfrm>
            <a:off x="4572000" y="4495680"/>
            <a:ext cx="45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 of 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r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patient management of acute urticaria: the role of prednison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ddition of a prednisone burst improves the symptomatic and clinical response of acute urticaria to antihistamines. Patients' conditions improved more quickly and more completely when prednisone was administered, without any apparent adverse effect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1080" y="135648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 Emerg Med. 1995 Nov;26(5):547-5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LGORITHM FOR ACUTE URTICARIA/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362320"/>
            <a:ext cx="84582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TAILED HISTORY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: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hysical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PECIFIC EXAMINATION-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CBC , URINE, ES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KI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gE-dependent (type 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681280" cy="267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461960"/>
            <a:ext cx="5486400" cy="377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127920"/>
            <a:ext cx="7772400" cy="730080"/>
          </a:xfrm>
          <a:prstGeom prst="rect">
            <a:avLst/>
          </a:prstGeom>
          <a:ln w="0">
            <a:noFill/>
          </a:ln>
        </p:spPr>
      </p:pic>
      <p:pic>
        <p:nvPicPr>
          <p:cNvPr id="85" name="c001mi01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2667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519440" cy="533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4038480" cy="23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52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kin Prick Test (S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52720" y="0"/>
            <a:ext cx="6191280" cy="64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97180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52680" y="4343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itiv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90800">
            <a:off x="1895040" y="416376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600200"/>
            <a:ext cx="80010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uckle-Wells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amilial -dominantly inher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rticaria              progressive nerve dea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imb pain          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current f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ypergammaglobul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ylo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YNDROMYES THAT CAN BE ASSOCIATED WITH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rgans" descr="Organs Affected by Amyloid Chart"/>
          <p:cNvPicPr/>
          <p:nvPr/>
        </p:nvPicPr>
        <p:blipFill>
          <a:blip r:embed="rId1"/>
          <a:stretch/>
        </p:blipFill>
        <p:spPr>
          <a:xfrm>
            <a:off x="6553080" y="3429000"/>
            <a:ext cx="2590920" cy="3178080"/>
          </a:xfrm>
          <a:prstGeom prst="rect">
            <a:avLst/>
          </a:prstGeom>
          <a:ln w="0">
            <a:noFill/>
          </a:ln>
        </p:spPr>
      </p:pic>
      <p:pic>
        <p:nvPicPr>
          <p:cNvPr id="98" name="ear" descr=""/>
          <p:cNvPicPr/>
          <p:nvPr/>
        </p:nvPicPr>
        <p:blipFill>
          <a:blip r:embed="rId2"/>
          <a:stretch/>
        </p:blipFill>
        <p:spPr>
          <a:xfrm>
            <a:off x="6286680" y="1143000"/>
            <a:ext cx="28573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83408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049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rtic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is characterized by transient, itchy, elevated edematous wheals or red papule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9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leich's syndrome 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pisodic angioedema with eosinophilia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89548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chnitzler syndrom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(SS), first reported in 1972, is characterized by chronic, nonpruritic urticaria in association with recurrent fever, bone pain, arthralgia or arthritis, and a monoclonal immunoglobulin M (IgM) gammopathy in a concentration that is usually less than 10 g/d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 Urticar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 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7315200" cy="63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לאורטיקריה כרונית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גורמים זיהומי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ידיופט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נגנון אוטואימונ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דלקת מפרקים של גיל הילד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urti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0"/>
            <a:ext cx="85345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93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ילדים  (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52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-זכרים ,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נקבות , גיל ממצוע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7.8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-אידיופט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31%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וטואימונית 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עקב גורם זיהומי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פיזיק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מולטיפקטורי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לרגית –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runetti 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J Allergy Clin Immunol 2004;114:922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434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1986 Grattan first describ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utologo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roduce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al and Flare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30-50% of CIU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4600" y="28404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immune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immune (autoantibodies against Fc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 or 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560" y="838080"/>
            <a:ext cx="78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1993  M. Greav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nd the presence of autoantibodies in C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N Engl J Med 1993;328:1599-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1000080"/>
            <a:ext cx="7791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vitro studies demonstrated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% of autoAb are IgG against F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ausing in-vitro human basoph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gran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5% were IgG against 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ross-linking two IgEs on mast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7943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toimmune basis for C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yroid autoimmunity in pts with C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ti-thyroid Ab. in 14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d / decreased thyr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ction i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hyroid%20comp" descr=""/>
          <p:cNvPicPr/>
          <p:nvPr/>
        </p:nvPicPr>
        <p:blipFill>
          <a:blip r:embed="rId1"/>
          <a:stretch/>
        </p:blipFill>
        <p:spPr>
          <a:xfrm>
            <a:off x="5357880" y="23623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03848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and T  cell lymphocytes derived from active CU patients demonstrated an increase expression of bcl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038480" cy="215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mune aberrations- basis for CI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666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ated T cell express incr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ression of CD40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05520" y="3436920"/>
          <a:ext cx="3838320" cy="31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436920"/>
                    <a:ext cx="38383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64911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. J Clin Immuno 2000;20:371-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ysical urticarias are characterized by the development of wealing and itching promptly after application of the appropriate physical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648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eals typically fade within 30-60 minutes. The exception is delayed pressure urticaria when the weals take several hours to appear after sustained pressure and can last up to 48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5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al typical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A central swelling, surrounded by eryth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or burning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The wheal disappear usually within 1-24 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13372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chy, monomorphic pale or pink wheals on trunk, neck, and limbs – after exercise or a hot sh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9720" y="38088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choliner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819760" cy="38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5867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evalence of 11% in the age group of 16-3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0520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75800" y="36036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ysical urticaria-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828800"/>
            <a:ext cx="464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painful or itchy red swelling at sites of pressure (soles, palms, or waist) lasting 24 hours or more- application of pressure perpendicular to skin produces red swelling after a latent period of 1 to 4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807732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91440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chy, linear wheals with surrounding bright-red flare at sites of scratching or rub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719440"/>
            <a:ext cx="4038480" cy="413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295280"/>
            <a:ext cx="3886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The most frequent form of physical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Affecting mainly young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Mean duration 6.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1979640"/>
            <a:ext cx="4724280" cy="487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39360" y="304920"/>
            <a:ext cx="51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43434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rare form of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duced by direct contact of the skin with warm objects or warm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liciting temperature ranges from 38º C to more than 50 º C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79080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18288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chy pale or red swelling at sites of contact with cold surfaces or fluids- ten minutes application of an ice pack causes a wheal within five minutes of the removal of 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9320"/>
            <a:ext cx="5943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re frequent in women tha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ajority  is idiopathic, some can also occur as a result of infections, neoplasia or autoimmune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fectious: syphilis, measles hepatitis ,mononucleosis, H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rticaria2" descr=""/>
          <p:cNvPicPr/>
          <p:nvPr/>
        </p:nvPicPr>
        <p:blipFill>
          <a:blip r:embed="rId1"/>
          <a:stretch/>
        </p:blipFill>
        <p:spPr>
          <a:xfrm>
            <a:off x="5715000" y="3622680"/>
            <a:ext cx="3429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9144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91440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ther forms of  physical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b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rener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llergy1-W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ole  of nonallergic hypersensitivity reactions in children with chronic urticaria ~ 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2627280"/>
            <a:ext cx="877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–symptoms clears within 48 hours if relevant food allergens are elimin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add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limination pseudoallergen diet - for at least  2-3 weeks before beneficial effect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llergy 1998:53:1074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5804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prevalence in different studies  ~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1337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Virus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epatitis B,C  ,  EBV , C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acteria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- helicobacter pylori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treptococci/staphylo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657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197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arasit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ecdotal series of cases documented a link between parasites and chronic urticaria such as: toxocara canis, giaardia lamblia,  strongyloides stercoralis and even blastocytis homi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1447920"/>
            <a:ext cx="54104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#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nounced swelling of the lower dermis and subcu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Most often found in the lips, eyelids or genit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and sometimes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Resolution can take up to 72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 is associated with urticaria in about 40% of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741480" cy="480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3881520" cy="243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895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9810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not have a predominantly physical tr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underlying vascul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direct contact with the causative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is heterogeneous group includes: cases for which no cause can be ide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DIOPATHIC URTIC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U  Duration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Patients ask, how long CU will last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More than 60% still visit the cli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6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40% of patients still suffer from 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057400" y="1523880"/>
          <a:ext cx="46483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6483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705720" y="2971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rticaria duration (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57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nical and Laboratory Parameters in Predicting Chronic Urtic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uration:  A Prospective Study of 139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840" y="60958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oubi et al Allergy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560" y="806760"/>
            <a:ext cx="7727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ates of urticaria duration in relation to disease severit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1981080"/>
          <a:ext cx="8305920" cy="2736720"/>
        </p:xfrm>
        <a:graphic>
          <a:graphicData uri="http://schemas.openxmlformats.org/drawingml/2006/table">
            <a:tbl>
              <a:tblPr/>
              <a:tblGrid>
                <a:gridCol w="2435400"/>
                <a:gridCol w="4613400"/>
                <a:gridCol w="1257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ates of urticaria 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m*        24m         36m        6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derate – sev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1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8%          0%            -            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6%         59%          50%       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74840"/>
            <a:ext cx="815364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46040"/>
            <a:ext cx="822960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355680"/>
            <a:ext cx="7772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42670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stology of the lesions of chronic idiopathic urti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47920"/>
            <a:ext cx="9372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nule and capillary dila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ssue edema –upper and mid dermi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dominantly perivascular cellular infiltrate – primarily mononuclea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86200"/>
            <a:ext cx="5105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cell are the predominant cell type (8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ild to moderate increase of  mas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ll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CHRONIC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ily non-sedating 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bination of H1 and H2 receptors ant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SEVERE UNREMITTING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smaphe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avenous immunoglob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yclospori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yclosporin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on helper T-cells to inhibit T-cell receptor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ctivated induction of IL-2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may also inhibit IgE-stimulated mast cell degranulation and stimulate TGF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w dose cyclosporin A in the treatment of severe chronic idiopathic urtic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3mg\kg of CsA, was shown to b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T Positivity could not predicted response to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some cases Prolonged treatmen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715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 Allergy 1997;52:312-3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219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1371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8920" y="12477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out 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133720"/>
            <a:ext cx="457200" cy="1447560"/>
          </a:xfrm>
          <a:prstGeom prst="downArrow">
            <a:avLst>
              <a:gd name="adj1" fmla="val 50000"/>
              <a:gd name="adj2" fmla="val 791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57200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ll kinds of urticaria except dermogra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495680"/>
            <a:ext cx="426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diopa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S- NSAIDs ,AC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1 eterase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209680"/>
            <a:ext cx="457200" cy="1447920"/>
          </a:xfrm>
          <a:prstGeom prst="downArrow">
            <a:avLst>
              <a:gd name="adj1" fmla="val 50000"/>
              <a:gd name="adj2" fmla="val 79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05320" cy="3028680"/>
          </a:xfrm>
          <a:prstGeom prst="rect">
            <a:avLst/>
          </a:prstGeom>
          <a:ln w="0">
            <a:noFill/>
          </a:ln>
        </p:spPr>
      </p:pic>
      <p:pic>
        <p:nvPicPr>
          <p:cNvPr id="213" name="ovidweb" descr="Graphic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Angioedema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962520" cy="2981160"/>
          </a:xfrm>
          <a:prstGeom prst="rect">
            <a:avLst/>
          </a:prstGeom>
          <a:ln w="0">
            <a:noFill/>
          </a:ln>
        </p:spPr>
      </p:pic>
      <p:pic>
        <p:nvPicPr>
          <p:cNvPr id="216" name="ovidweb" descr="Graphic"/>
          <p:cNvPicPr/>
          <p:nvPr/>
        </p:nvPicPr>
        <p:blipFill>
          <a:blip r:embed="rId2"/>
          <a:stretch/>
        </p:blipFill>
        <p:spPr>
          <a:xfrm>
            <a:off x="0" y="2457360"/>
            <a:ext cx="51814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094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decreased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אידיופטית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normal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002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ntact urticaria is an important manifestation of natural rubber latex all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Click to see larger 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886200"/>
            <a:ext cx="3733920" cy="244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35053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dinary urticaria- acute , chronic, episod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00200" y="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00"/>
                </a:solidFill>
                <a:latin typeface="Arial"/>
                <a:ea typeface="Times New Roman (Hebrew)"/>
              </a:rPr>
              <a:t>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  <a:cs typeface="Times New Roman (Hebrew)"/>
              </a:rPr>
              <a:t>תאור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</a:rPr>
              <a:t>מקר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14479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066680"/>
            <a:ext cx="81532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ל.ע  בת 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פנתה עקב אורטיקריה מזה כחצי שנ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סקירה מערכתית :  עליה במשקל של כ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ק"ג בחצי שנה ,עייפ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ה גופנית אורטיקריה קלה בעיקר בבטן וגב – בולטת יותר באזורי לחץ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53352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ות מעבדה : ס"ד , תפקודי כבד ,כליה, שתן כללית ,צואה לפרזיטים-ללא  ממצא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סט עורי למוצרי מזון- שליל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SH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- 50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↑,  נוגדנים לרקמת בלוטת התרי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LOG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יוב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267080"/>
            <a:ext cx="685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טיפול – מתן אלטרוקסין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לורסטין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מ"ג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dinary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ut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up to 6 weeks of continu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pisod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intermitt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98560"/>
            <a:ext cx="8153280" cy="501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647712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609480"/>
            <a:ext cx="73152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שניתן למצוא כגורמת  ל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חלות  זיהומיו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עקיצות חרק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חומרי ניגו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urticaria1a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2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6:59:23Z</dcterms:created>
  <dc:creator>Dr. Aron Kessel</dc:creator>
  <dc:description/>
  <dc:language>en-US</dc:language>
  <cp:lastModifiedBy>Zakai</cp:lastModifiedBy>
  <dcterms:modified xsi:type="dcterms:W3CDTF">2007-02-06T06:14:27Z</dcterms:modified>
  <cp:revision>99</cp:revision>
  <dc:subject/>
  <dc:title>Slide 1</dc:title>
</cp:coreProperties>
</file>