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18.png" ContentType="image/png"/>
  <Override PartName="/ppt/media/image17.wmf" ContentType="image/x-wmf"/>
  <Override PartName="/ppt/media/image15.jpeg" ContentType="image/jpeg"/>
  <Override PartName="/ppt/media/image1.jpeg" ContentType="image/jpeg"/>
  <Override PartName="/ppt/media/image9.jpeg" ContentType="image/jpeg"/>
  <Override PartName="/ppt/media/image5.jpeg" ContentType="image/jpeg"/>
  <Override PartName="/ppt/media/image19.jpeg" ContentType="image/jpe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8.png" ContentType="image/png"/>
  <Override PartName="/ppt/media/image14.jpeg" ContentType="image/jpeg"/>
  <Override PartName="/ppt/media/image16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C5B1-814A-409A-8D4C-080230906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0147-40EB-4F36-811A-86032384E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A9AF-1718-4701-A474-B78316FF7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7EB9-D839-4B07-B1D9-B3B831BAF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6B012-659B-4C36-B9E8-46E40B9ED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A682C-20DC-4507-A820-FDCA8829F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8D136-1BA1-4597-BA50-F240B5C2A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49410-6F37-4974-ACD6-2082768F1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49A1E-DAAF-4886-82C1-616A4DFE8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8BC4C-D6FD-4F24-9878-C583C5479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EE97C-C2E4-4B77-A097-B2D0686E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1C95-F4FD-43BB-AE6D-44805A036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F2CD9-0F3B-4D90-80E9-C57DD94A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42411-3B6B-4AE8-8460-64EC3DDD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AFD88-3DBC-4316-8BAD-A2C9E78B7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0E604-1E12-4CA5-B1E5-E23F2ED07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02244-131F-4ABC-9B73-305342F12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AA8D-5E6F-4F2C-B143-8FC3512F0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689A-B28F-47BD-8556-00D817EDD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CD56-623B-43C1-9C18-D91B75BD3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F550-B8AB-4507-9DEA-6626E6DE9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D9D4-7D1D-467F-9B3D-EC977526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374B-9187-45C5-8F7A-D4CE7E07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6C1C-BFE8-4C05-BA10-375E70EA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EBBF-4DC7-4DE7-B02C-AB85E8AFCA69}" type="slidenum">
              <a:rPr b="0" lang="he-IL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705A6-8C2D-4867-99FD-73C9009CC948}" type="slidenum">
              <a:rPr b="0" lang="he-IL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 rtl="1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76360" y="242064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Comic Sans MS"/>
              </a:rPr>
              <a:t>טעם החיים המוקדמים</a:t>
            </a:r>
            <a:br>
              <a:rPr sz="4400"/>
            </a:br>
            <a:r>
              <a:rPr b="0" lang="hi-IN" sz="4400" spc="-1" strike="noStrike">
                <a:solidFill>
                  <a:srgbClr val="ff0000"/>
                </a:solidFill>
                <a:latin typeface="Comic Sans MS"/>
              </a:rPr>
              <a:t>נושאים בתזונת תינוקות וילדים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618920" y="566064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Comic Sans MS"/>
              </a:rPr>
              <a:t>דר' רון שאול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Comic Sans MS"/>
              </a:rPr>
              <a:t>מרכז רפואי בני ציו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758960" y="0"/>
            <a:ext cx="50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0560" y="620280"/>
            <a:ext cx="824364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C – PUFA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ω-3 AND ω-6 FATTY ACID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9647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ω-3 and ω-6 fatty acid families also are referred to as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essential fatty acid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because of absent de novo synthesis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ω-6 series are the precursors for arachidonic acid (AA), which has several biologic roles, including structural component of cell membranes and precursor for prostaglandins and leukotriene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C – PUFA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ω-3 AND ω-6 FATTY ACID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-360" y="2060640"/>
            <a:ext cx="8380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ω-3 Fatty acids, especially docosahexaenoic acid DHA, may be important for proper functioning of cellular membranes in neuronal tissues, such as the retina and the brai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C – PUFA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ω-3 AND ω-6 FATTY ACID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brain and retina are rich in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ω-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atty acids, particularly DHA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se fatty acids are present in human milk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A and DHA may be necessary for neural development, cognitive func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9144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are 14 controlled trials in term infants that have included formula feeding with or without LCPUFA and functional assessment of visual and other measures of neural development; in addition, 7 have evaluated specific measures related to cognitive development.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85800" y="297000"/>
            <a:ext cx="687060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4360" y="1196640"/>
            <a:ext cx="7704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y examined the effect of DHA dose provided daily on the development of visual acuity to explain the differences in visual acuity responses across randomized studies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ults indicate a strong and significant effect of DHA equivalent dose on magnitude of the visual acuity response at all conversions test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st studies showed no advantage for LCPUFA on neurodevelopmen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297000"/>
            <a:ext cx="755640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y concluded that there is a significant relation between the total DHA equivalents provided and effectiveness as defined by visual acuity measurements at 4 months of age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85800" y="297000"/>
            <a:ext cx="6870600" cy="13096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4837680" y="5950080"/>
            <a:ext cx="30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J Pediatr 2003;143:S17-S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ong chain polyunsaturated fatty acid supplementation in infants born at ter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-360" y="2060640"/>
            <a:ext cx="8380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clusions: At present there is little evidence from randomised trials to support the hypothesis that LCPUFA supplementation confers a benefit for visual or general development of term infants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nor effects on VEP acuity have been suggested but appear unlikely when all studies are reviewed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/>
          <p:nvPr/>
        </p:nvSpPr>
        <p:spPr>
          <a:xfrm>
            <a:off x="2050920" y="6165720"/>
            <a:ext cx="578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Cochrane Database of Systematic Reviews</a:t>
            </a:r>
            <a:r>
              <a:rPr b="0" i="1" lang="he-IL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3, 2005</a:t>
            </a:r>
            <a:r>
              <a:rPr b="0" lang="he-IL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ong chain polyunsaturated fatty acid supplementation in infants born at ter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beneficial effect on information processing is possible but larger studies over longer periods are require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ata from randomised trials do not suggest that LCPUFA supplements influence the growth of term infant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/>
          <p:nvPr/>
        </p:nvSpPr>
        <p:spPr>
          <a:xfrm>
            <a:off x="2732760" y="6165720"/>
            <a:ext cx="531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Cochrane Database of Systematic Reviews</a:t>
            </a:r>
            <a:r>
              <a:rPr b="0" i="1" lang="he-IL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3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bjective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objective was to determine the effect of supplementing infant formula with long-chain polyunsaturated fatty acids (LCPUFAs) on the growth of term infant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sign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reviewed all known randomized controlled trials that involved LCPUFA supplementation of infant formula fed to term infant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tcome measures were weight, length, and head circumferen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24000" y="317520"/>
            <a:ext cx="763272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-360" y="1828800"/>
            <a:ext cx="838188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esults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identified 14 eligible trials that had data available for meta-analysis (1846 infants)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ial quality was generally high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ta-analysis showed no significant effect of LCPUFA supplementation on infant weight, length, or head circumference at any assessment ag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ilarly, subgroup analyses showed that supplementation with only n3 LCPUFAs or different sources of LCPUFA (phospholipid or triacylglycerol) also did not significantly affect infant growt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9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y based formul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556000" y="2085840"/>
            <a:ext cx="3857400" cy="47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55280" y="-800280"/>
            <a:ext cx="6870600" cy="16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-360" y="1413000"/>
            <a:ext cx="8164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y-based infant formulae, initially developed for infants who were lactose intolerant or allergic to cow’s milk–based formulae, now account for &gt;25% of the infant formulae sold in the United States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mulations have changed over the years to improve digestibility, the stability and availability of minerals, and protein quality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ults suggest that modern soy-based formulae support normal growth and nutritional status in healthy term infants at the age of 1 year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ever, there are very limited data on sexual and reproductive development or outcomes such as immune function, visual acuity/cognitive development and thyroid function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"/>
          <p:cNvSpPr/>
          <p:nvPr/>
        </p:nvSpPr>
        <p:spPr>
          <a:xfrm>
            <a:off x="3419640" y="580536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ndez MA, et al. J Nutr 2002; 132</a:t>
            </a:r>
            <a:r>
              <a:rPr b="0" lang="he-IL" sz="1800" spc="-1" strike="noStrike">
                <a:solidFill>
                  <a:srgbClr val="000000"/>
                </a:solidFill>
                <a:latin typeface="Comic Sans MS"/>
              </a:rPr>
              <a:t>(8):2127-213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cent concerns have been raised regarding the phytoestrogenic isoflavone content (x40 in comparison to breast milk) of soy-based formula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bjectiv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examine the association between infant exposure to soy formula and health in young adulthood, with an emphasis on reproductive healt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sign, Setting, and Participant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rospective cohort study among adults aged 20 to 34 years who, as infants, participated in controlled feeding studies conducted at the University of Iow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48 were fed soy formula and 563 were fed cow milk formula during infanc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6408720" cy="9558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5292720" y="602136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JAMA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nclusions: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posure to soy formula does not appear to lead to different general health or reproductive outcomes than exposure to cow milk formula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indings are reassuring about the safety of infant soy formul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755640" y="311040"/>
            <a:ext cx="6624720" cy="12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9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In term infants whose nutritional needs are not being met from maternal breast milk or cow milk based formulas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They are appropriate for use in infants with galactosemia and hereditary lactase deficienc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Parents seeking a vegetarian-based diet for a term infa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. Isolated soy protein-based formulas are indicated for acute gastroentitis when lactose intolerance has been documente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773280" y="304920"/>
            <a:ext cx="669420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-360"/>
            <a:ext cx="76960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. Soy protein-based formula has no proven value in the prevention or management of infantile coli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. Soy protein-based formula has no proven value in the prevention of atopic disease in healthy or high-risk infant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. Infants with documented cow milk protein-induced enteropathy or enterocolitis frequently are as sensitive to soy protein and should not be given isolated soy protein-based formula routinel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. Most infants with documented IgE-mediated allergy to cow milk protein will do well on isolated soy protein-based formul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9. Soy protein-based formulas are not designed or recommended for preterm infants who weight &lt;1800 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"/>
          <p:cNvSpPr/>
          <p:nvPr/>
        </p:nvSpPr>
        <p:spPr>
          <a:xfrm>
            <a:off x="4809960" y="5950080"/>
            <a:ext cx="264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Pediatrics, January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696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-387720"/>
            <a:ext cx="7556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y for allergy preven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clusions: Feeding with a soy formula should not be recommended for the prevention of allergy or food intolerance in infants at high risk of allergy or food intoleran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"/>
          <p:cNvSpPr/>
          <p:nvPr/>
        </p:nvSpPr>
        <p:spPr>
          <a:xfrm>
            <a:off x="3492360" y="5734080"/>
            <a:ext cx="49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sborn DA, et al. Soy formula for prevention of allergy and food intolerance in infants. </a:t>
            </a: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Cochrane Database Syst Rev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178920" y="1828800"/>
            <a:ext cx="8202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y allergy occurs in only a small minority of young children with IgE-associated CMA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 such, soy formula may provide a safe and growth-promoting alternative for the majority of these children.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158760"/>
            <a:ext cx="7310520" cy="15858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4336200" y="5805360"/>
            <a:ext cx="280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J Pediatr 1999;134:614-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fants (n = 170) with documented cow’s milk allergy were randomly assigned to receive either a soy formula or an extensively hydrolyzed formul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it was suspected that the formula caused symptoms, a double-blind, placebo-controlled challenge (DBPCFC) with the formula was performe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hildren were followed to the age of 2 years, and soy-specific IgE antibodies were measured at the time of diagnosis and at the ages of 1 and 2 year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247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clusions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y formula was well tolerated by most infants with IgE associated and non–IgE-associated cow’s milk allergy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velopment of IgE-associated allergy to soy was rare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y formula can be recommended as a first-choice alternative for infants &gt;6 months of age with cow’s milk allergy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73803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Comic Sans MS"/>
              </a:rPr>
              <a:t>המלצת הועדה המקצועית של משרד הבריאות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omic Sans MS"/>
              </a:rPr>
              <a:t>בהמלצות הועדה המקצועית מטעם משרד הבריאות, בראשות פרופ′ צבי ויצמן שסקרה את הנושא לעומקו הומלץ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omic Sans MS"/>
              </a:rPr>
              <a:t>לעודד הנקה או שימוש בתרכובות חלב פרה באוכלוסיות הצורכות תכשירי סויה מטעמי כשרות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omic Sans MS"/>
              </a:rPr>
              <a:t>להגביר הסברה בנושא הנזקים האפשריים משימוש בתכשירי סויה הן לציבור והן לכלל עובדי הרפואה (בעיקר רופאי ילדים, רופאי משפחה, דיאטניות ואחיות בריאות הציבור)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omic Sans MS"/>
              </a:rPr>
              <a:t>ביצוע מחקרים התערבותיים ארוכי טווח כדי לבחון את בטיחות  השימוש בתכשירי סויה בתינוקות ובילדים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omic Sans MS"/>
              </a:rPr>
              <a:t>ניטור רמות הטירוקסין בדם בתינוקות ובפעוטות עם  תת-פעילות של בלוטת התריס, הניזונים מתכשירים על בסיס סויה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Lactose Free formul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4000" y="-459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8532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though few infants are likely to manifest lactose intolerance, the use of lactose-free formulas has increased rapidly in the past several years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ny parents prefer lactose-free formula, apparently because they believe infants tolerate it better than they do formulas containing lactose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55280" y="-800280"/>
            <a:ext cx="6870600" cy="16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-360" y="981000"/>
            <a:ext cx="8380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ctose is a disaccharide that is present in almost all mammalian milk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is digested in the small bowel by the lactase located on the brush border of the enterocyt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 digestion, lactose is broken down into two components, glucose and galactos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lactose is not digested or is digested minimally, the intact sugar moves into the large bowel where it is fermented by enteric bacteri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fermentation produces acids, carbon dioxide, methane, and hydrogen, and usually results in borborygmi and abdominal discomfort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55280" y="-6037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838044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ck of digestion of lactose results in an increased number of solute particles in the large bowel with a concomitant increase in osmotic pressure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 has been suggested that the diarrhea associated with lactose intolerance occurs when the capacity of the bacteria to metabolize carbohydrate in the colon has been exceeded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st of the people of the world are unable to digest lactose in adult life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4000" y="-800280"/>
            <a:ext cx="6870600" cy="16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845964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general, evidence for malabsorption of lactose as a clinical problem is not manifest until after 5 to 7 years of age, although this age can be variabl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dividuals can increase their tolerance to dairy products by ingesting fermented products such as yogurt, hard cheeses and cottage cheese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en children hypersensitive to CM are clinically tolerant to lactose and can safely consume foods and drugs with lactose from bovine sources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Comic Sans MS"/>
              </a:rPr>
              <a:t>מהי כלכלה ים תיכונית בריאה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Comic Sans MS"/>
              </a:rPr>
              <a:t>מה כ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omic Sans MS"/>
              </a:rPr>
              <a:t>ירקות , פירות, קטניות, אגוזים ודגים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omic Sans MS"/>
              </a:rPr>
              <a:t>אלכוהול בכמות מתונה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Comic Sans MS"/>
              </a:rPr>
              <a:t>מה לא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omic Sans MS"/>
              </a:rPr>
              <a:t>בשרים ומוצרי חלב עתירי שומן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Comic Sans MS"/>
              </a:rPr>
              <a:t>ירידה בתמותה ממחלות לב ומסרט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-360" y="836640"/>
            <a:ext cx="838188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though reduction in intestinal brush-border lactase levels is often associated with diarrhea, most infants with decreased lactase levels will not have clinical signs or symptoms of malabsorption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fants fed human milk can be nursed safely during episodes of diarrhea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179280" y="907920"/>
            <a:ext cx="8056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cently, a major comprehensive report concluded that it is unwise to discourage the use of milk in children from a population with a high rate of lactose malabsorption unless these children are suffering from severe diarrhea or show a definite intolerance to milk or milk products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"/>
          <p:cNvSpPr/>
          <p:nvPr/>
        </p:nvSpPr>
        <p:spPr>
          <a:xfrm>
            <a:off x="2556000" y="5392800"/>
            <a:ext cx="56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merican Academy of Pediatrics Committee on Nutrition: Practical significance of lactose intolerance in children: supplement. Pediatrics 1990; 86:643-64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meta-analysis was performed to evaluate the use of lactose-containing feedings in children with diarrhea and concluded that 80% or more of children with acute diarrhea can tolerate full-strength milk safel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"/>
          <p:cNvSpPr/>
          <p:nvPr/>
        </p:nvSpPr>
        <p:spPr>
          <a:xfrm>
            <a:off x="2843280" y="573408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rown KH, et al. Pediatrics 1994; 93(1):17-2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8381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pite the lack of proven efficacy, lactose free formula is also widely used in diarrheal illnesses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growth of infants fed lactose-free formulas is comparable to that of infants fed lactose-containing formula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uestions remain, however, regarding the mineral bioavailability and optimal mineral contents of these lactose-free formula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ormula should not be used for galactosemia patients !!!!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 who should get the formula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?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might be helpful in cases of diarrhea among malnourished children or among children with a severe enteropath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ypoallergenic formul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55280" y="-800280"/>
            <a:ext cx="6870600" cy="16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16444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ypoallergenic formulas are processed by enzymatic hydrolysis of different protein sources followed by further processing ( heat treatment and/or ultrafiltration), or they are based on amino acid mixtures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roducts have been classified according to the degree of protein hydrolysis as extensively or partially hydrolysed protein product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4000" y="-6037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1723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ly pure amino acid mixtures are considered to be nonallergenic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ther hypoallergenic products contain residual allergenicit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ypoallergenic formulas for treatment of cow’s milk protein allergy should be tolerated by at least 90% of infants with documented cow’s milk protein allergy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-360" y="1557360"/>
            <a:ext cx="838188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eeding high-risk infants hypoallergenic formula combined with avoidance of solid foods during the first 4–6 months reduces the cumulative incidence of cow’s milk protein allergy and atopic dermatitis as compared with a standard cow’s-milk-based formula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tially hydrolysed formulas may have an effect, though it seems to be less than that of extensively hydrolysed formulas at present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"/>
          <p:cNvSpPr/>
          <p:nvPr/>
        </p:nvSpPr>
        <p:spPr>
          <a:xfrm>
            <a:off x="4284720" y="58770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ost A et al. Allergy 200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Comic Sans MS"/>
              </a:rPr>
              <a:t>שעורי תמותה ביחס לצריכת כלכלה ים תיכונית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835280" y="1484280"/>
            <a:ext cx="518472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, if exclusive breastfeeding for 4–6 months is not possible in high- risk infants, a documented hypoallergenic formula and avoidance of solid foods are recommended for the first 4 months of lif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lid foods should not be introduced into the diet of high-risk infants until 6 months of age, with dairy products delayed until 1 year, eggs until 2 years, and peanuts, nuts, and fish until 3 years of ag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"/>
          <p:cNvSpPr/>
          <p:nvPr/>
        </p:nvSpPr>
        <p:spPr>
          <a:xfrm>
            <a:off x="3708360" y="5300640"/>
            <a:ext cx="374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merican Academy of Pediatrics. Hypoallergenic infant formulas. Pediatrics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4000" y="-5320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hrane re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8172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is no evidence to support feeding with a hydrolysed formula for the prevention of allergy in preference to exclusive breast feeding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high risk infants who are unable to be completely breast fed, there is evidence that prolonged feeding with a hydrolysed compared to a cow's milk formula reduces infant and childhood allergy and infant CMA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"/>
          <p:cNvSpPr/>
          <p:nvPr/>
        </p:nvSpPr>
        <p:spPr>
          <a:xfrm>
            <a:off x="2124000" y="5734080"/>
            <a:ext cx="619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sborn DA, Sinn J. Formulas containing hydrolysed protein for prevention of allergy and food intolerance in infants. Cochrane Database Syst Rev 200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d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w’s milk allergy mainly non IgE mediated (for at least 6 month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ergic disease prevention in high risk infants 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re infantile coli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ort bowel syndro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ractable diarrhe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olestatic liver disease (MCT enriched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roduction of soli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619280" y="1989000"/>
            <a:ext cx="5545080" cy="39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merican Academy of Pediatrics Recommendations for Complementary Feeding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commendations for complementary feedings of infants and young children have not varied significantly over the past 40 years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American Academy of Pediatrics recommends the introduction of solid foods at 4 to 6 months of a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commends introducing single-ingredient complementary foods one at a time for a several day tria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merican Academy of Pediatrics Recommendations for Complementary Feed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Academy cautions against the feeding of hard, small particulate foods during the first 2 to 3 years of lif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guidelines suggest that fruit juice is not a necessary part of an infant's diet and that, in any event, fruit juice intake be limited to 240cc per day after its initial introduction at 6 months of age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O/UNICEF Guidelines on Complementary Feeding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8307360" cy="41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optimal age of introduction of complementary foods remains controversial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appropriate time may represent a compromise between 2 competing health issue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) if introduced too late when breast milk alone no longer meets all the infant's energy and nutrient needs, nutrient deficiencies and growth faltering may occur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) On the other hand, because these foods are often contaminated, premature introduction carries an unnecessary risk of infection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O/UNICEF Guidelines on Complementary Feed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sizeable number of observational studies and 2 randomized trials have failed to identify any benefit of complementary foods for infant growth before 6 months of age, even in low birth weight term infants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y contrast, several studies have documented a twofold or greater risk of enteric and other infections when these foods are provided before 6 months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0920" y="2205000"/>
            <a:ext cx="81295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uman milk is the most appropriate milk for the newborn infant.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jor research has been going on over the last years towards the development  of enteral formulas that would be as close as possible to the composition of breast milk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O/UNICEF Guidelines on Complementary Feed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authors of the WHO/UNICEF report concluded that the optimal age of introduction of complementary foods is about 6 months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thod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9360 Infants were divided into three groups based on the age at which they were first introduced to `lumpy' solids: 10.7% were introduced before 6 months of age, 71.7% were introduced between 6 and 9 months and 17.6% were introduced after 10 months of ag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foods eaten by those introduced before 6 months and after 10 months were compared to those introduced between 6 and 9 month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250920" y="152280"/>
            <a:ext cx="7200720" cy="16002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5796000" y="6021360"/>
            <a:ext cx="2508120" cy="30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t each age, those introduced late (10 months or older) to lumps were more difficult to feed and had more definite likes and dislik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73803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introduction of four or more solid foods by or before 17 weeks post-term was a significant risk (odds ratio3.49) for the development of eczema by 12 months post-ter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le infants were at significantly higher risk (odds ratio 1.84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85800" y="158760"/>
            <a:ext cx="687060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ank you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1619280" y="1868400"/>
            <a:ext cx="623736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SPGHAN committee of nutrition 2004: probiotic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71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are only limited published data on the safety and clinical efficacy of infant formula supplemented with probiotic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are indications for possible short term benefits of some probiotic strains in infants and young children, in particular regarding infectious diarrhe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ever, there is no published evidence on long-term effects on intestinal colonization and its potential effects on long term gastrointestinal and immune functions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SPGHAN committee of nutrition 2004: probiotic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 data suggest that bacteria ingested during early infancy are more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likely to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rmanently colonize the intestine than those ingested during later lif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SPGHAN committee of nutrition 2004: probiotic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ommittee recommends that in adding probiotics to dietetic products for infants, only such bacterial strains should be used for which identity and genetic stability has been demonstrate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ontent of viable bacteria in a dietetic product must be of a dose shown to be safe and effective with regard to defined outcomes in clinical trials, throughout the shelf-life of the produc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SPGHAN committee of nutrition 2004: probiotic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ommittee is concerned that the available data are not sufficient to support the safety of probiotics in healthy newborn and very-young infants with immature defense systems, immunocompromized infants, premature infants, and infants with congenital heart diseas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ommittee concludes that further evaluation of safety and efficacy of the addition of probiotic bacteria to dietetic products to infants is necessary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-360" y="1828440"/>
            <a:ext cx="838188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major nutrients of interest includ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lutami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uri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ω-fatty aci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ucleotid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biotics, and prebiotic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tioxida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403280" y="1125360"/>
            <a:ext cx="612000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ω-fatty aci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9T08:13:20Z</dcterms:created>
  <dc:creator>Ron Shaoul</dc:creator>
  <dc:description/>
  <dc:language>en-US</dc:language>
  <cp:lastModifiedBy>Ron Shaoul</cp:lastModifiedBy>
  <dcterms:modified xsi:type="dcterms:W3CDTF">2005-10-04T16:05:59Z</dcterms:modified>
  <cp:revision>36</cp:revision>
  <dc:subject/>
  <dc:title>טעם החיים המוקדמים נושאים בתזונת תינוקות וילדים</dc:title>
</cp:coreProperties>
</file>