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D84-BEFA-415E-A7B1-4522EF0A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43B5-9DF8-4E67-9C56-E383A0D6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4F7-A922-42A6-8758-0A20CA6F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1E6-91FA-4D2D-8E64-2260C2B1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610E-DFF7-4491-BCFE-96AE937B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6790-F1AB-4B69-B87F-8C417784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346C-D61D-4439-AEE7-D3EEBF6A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F5B3-8C6B-4903-8A87-D231018A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F251-127D-45D9-8B15-46328D3A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51F7-0871-4688-B601-CA0A0120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1EDA-338A-411B-A4E5-304D3ACD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F19-7A7A-49D2-8D86-F3ABB9DE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7DFB-A175-4E1E-A9B3-03F471F6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B7D7-EAF0-4C75-ACB1-6660A55B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DD96-4060-4C5C-B447-9C709921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383C-940E-405A-BA2D-99238804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85B2-A5BD-487A-AC99-2EE07922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866-9099-491C-A94B-7D6FE6A3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AEC-4B46-43A0-AFD8-E8186F8C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27C-2772-4625-A671-BDA1110A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BA7-0ED4-40C8-8714-B360C96D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5A6-AAA5-475D-9CFA-E1DB843C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D6E-D275-49DE-94EC-F1F2DDF3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52F-9601-4D23-A82B-C7B7C191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8258-0680-4008-9340-513370E5833E}" type="slidenum">
              <a:rPr b="0" lang="he-I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A724-1B60-4BCF-9C1D-E4E5A5B5038A}" type="slidenum">
              <a:rPr b="0" lang="he-I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 rtl="1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 rtl="1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 rtl="1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ginisty.typepad.com/weblog/images/question.jpg&amp;imgrefurl=http://www.ginisty.com/weblog/2005/08/index.html&amp;h=367&amp;w=250&amp;sz=20&amp;hl=iw&amp;start=9&amp;tbnid=tVXYnl85J3YWhM:&amp;tbnh=122&amp;tbnw=83&amp;prev=/images%3Fq%3D%2BQUESTION%26ndsp%3D20%26svnum%3D10%26hl%3Diw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ginisty.typepad.com/weblog/images/question.jpg&amp;imgrefurl=http://www.ginisty.com/weblog/2005/08/index.html&amp;h=367&amp;w=250&amp;sz=20&amp;hl=iw&amp;start=9&amp;tbnid=tVXYnl85J3YWhM:&amp;tbnh=122&amp;tbnw=83&amp;prev=/images%3Fq%3D%2BQUESTION%26ndsp%3D20%26svnum%3D10%26hl%3Diw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gegarandeerd.nl/upload/opdrachtgevers/puzzel.GIF&amp;imgrefurl=http://www.gegarandeerd.nl/nl/html/algemeen/avance_site/Contactformulier.asp&amp;h=400&amp;w=335&amp;sz=21&amp;hl=iw&amp;start=7&amp;tbnid=ODs8EVM6kKzEvM:&amp;tbnh=124&amp;tbnw=104&amp;prev=/images%3Fq%3D%2BPUZZEL%26svnum%3D10%26hl%3Diw%26lr%3D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ginisty.typepad.com/weblog/images/question.jpg&amp;imgrefurl=http://www.ginisty.com/weblog/2005/08/index.html&amp;h=367&amp;w=250&amp;sz=20&amp;hl=iw&amp;start=9&amp;tbnid=tVXYnl85J3YWhM:&amp;tbnh=122&amp;tbnw=83&amp;prev=/images%3Fq%3D%2BQUESTION%26ndsp%3D20%26svnum%3D10%26hl%3Diw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ginisty.typepad.com/weblog/images/question.jpg&amp;imgrefurl=http://www.ginisty.com/weblog/2005/08/index.html&amp;h=367&amp;w=250&amp;sz=20&amp;hl=iw&amp;start=9&amp;tbnid=tVXYnl85J3YWhM:&amp;tbnh=122&amp;tbnw=83&amp;prev=/images%3Fq%3D%2BQUESTION%26ndsp%3D20%26svnum%3D10%26hl%3Diw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ginisty.typepad.com/weblog/images/question.jpg&amp;imgrefurl=http://www.ginisty.com/weblog/2005/08/index.html&amp;h=367&amp;w=250&amp;sz=20&amp;hl=iw&amp;start=9&amp;tbnid=tVXYnl85J3YWhM:&amp;tbnh=122&amp;tbnw=83&amp;prev=/images%3Fq%3D%2BQUESTION%26ndsp%3D20%26svnum%3D10%26hl%3Diw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Guttman Adii-Light"/>
              </a:rPr>
              <a:t>16 </a:t>
            </a:r>
            <a:r>
              <a:rPr b="0" lang="hi-IN" sz="40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לאו לנער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000" y="5876640"/>
            <a:ext cx="24750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Verdana"/>
                <a:cs typeface="Guttman Hatzvi"/>
              </a:rPr>
              <a:t>ד"ר יוסי רימ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2781360"/>
            <a:ext cx="8001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There is nothing more stimulating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than a case where everything go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against you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26028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אירוע הנוכחי – המשך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0000"/>
                </a:solidFill>
                <a:latin typeface="Verdana"/>
              </a:rPr>
              <a:t>יומיים לאחר מכן יואב חוזר עקב עלית חום שהתרחשה בלילה עד ל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מעל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0000"/>
                </a:solidFill>
                <a:latin typeface="Verdana"/>
              </a:rPr>
              <a:t>בבדיקתו אין שינו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</a:rPr>
              <a:t>אבחנה מבדלת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טרפ. פנוימוניה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מיקופלסמה / כלמידיה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דלקת וירלית "שהסתבכה "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"אחר"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40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יך תמשיך בטיפול עכשיו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  <a:ea typeface="Guttman Adii-Light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  <a:cs typeface="Guttman Hatzvi"/>
              </a:rPr>
              <a:t>האם כרגע יש מקום לבירור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ttman Hatzv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ttman Hatzv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83520" y="333360"/>
            <a:ext cx="11746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אם  יש מקום לצילום חזה 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7848360" cy="1496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4360" y="4149720"/>
            <a:ext cx="7848360" cy="1166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979640" y="3573360"/>
            <a:ext cx="489600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ירוע נוכחי - המש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וחלט על מתן אזניל למשך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ימי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לאחר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שעות חלה ירידה בחו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גם השיעול הראה מגמת שיפור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ביקורת שנערכה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ימים לאחר תחילת הטיפול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לא נשמעו קרפיטציות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ואב משוחרר ללא הוראות נוספות לביתו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333360"/>
            <a:ext cx="143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2707920"/>
            <a:ext cx="7380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I am  glad  of  all  details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whether  they  seem to you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to  be  relevant  or  not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יומיים לאחר מכן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ואב מגיע למרפאה ומדווח שוב על חום של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מעלות ,כאבים בחזה ימין ותחושת קוצר נשימה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בדיקתו קרפיטציות על פני החצי התחתון של ריאה ימין. קצב נשימה של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ללא רושם של מצוקה. ניקוש והדהוד – תקינים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דלקת ריאות נשנית באותו מקום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–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br>
              <a:rPr sz="3400"/>
            </a:b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הי האבחנה המבדלת 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600" spc="-1" strike="noStrike">
                <a:solidFill>
                  <a:srgbClr val="000000"/>
                </a:solidFill>
                <a:latin typeface="Verdana"/>
                <a:ea typeface="Guttman Hatzvi"/>
              </a:rPr>
              <a:t>    סיבות שמתוך דרכי האויר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600" spc="-1" strike="noStrike">
                <a:solidFill>
                  <a:srgbClr val="000000"/>
                </a:solidFill>
                <a:latin typeface="Verdana"/>
                <a:cs typeface="Guttman Hatzvi"/>
              </a:rPr>
              <a:t>שכיחות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גוף ז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600" spc="-1" strike="noStrike">
                <a:solidFill>
                  <a:srgbClr val="000000"/>
                </a:solidFill>
                <a:latin typeface="Verdana"/>
                <a:cs typeface="Guttman Hatzvi"/>
              </a:rPr>
              <a:t>לא שכיחות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שחפ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גידול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המנגיומ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פפילומ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גרנולומ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דלקת ריאות נשנית באותו מקום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–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br>
              <a:rPr sz="3400"/>
            </a:b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הי האבחנה המבדלת 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סיבות שמחוץ לדרכי האויר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000" spc="-1" strike="noStrike">
                <a:solidFill>
                  <a:srgbClr val="000000"/>
                </a:solidFill>
                <a:latin typeface="Verdana"/>
                <a:ea typeface="Guttman Hatzvi"/>
              </a:rPr>
              <a:t> שכיחות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בלוטות לימפה לוחצ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000" spc="-1" strike="noStrike">
                <a:solidFill>
                  <a:srgbClr val="000000"/>
                </a:solidFill>
                <a:latin typeface="Verdana"/>
                <a:ea typeface="Guttman Hatzvi"/>
              </a:rPr>
              <a:t> לא שכיחות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טבעות וסקולרי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רקואידוזי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גידולי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213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iner Hand ITC"/>
              </a:rPr>
              <a:t>Chance has put in our way a most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iner Hand ITC"/>
              </a:rPr>
              <a:t>     singular and whimsical problem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iner Hand ITC"/>
              </a:rPr>
              <a:t>          and its solution is its own rewar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דלקת ריאות נשנית באותו מקום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–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br>
              <a:rPr sz="3400"/>
            </a:b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הי האבחנה המבדלת 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סיבות מבניות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T middle lobe sy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ציסטה ברונכוגנית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פולמונרי סקווסטרציה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ברונכיאל סטנוזי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genital cystic adenomatoid malformation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ברונכואקטזיות</a:t>
            </a:r>
            <a:r>
              <a:rPr b="0" i="1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יך מתקדמים 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בירור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צילום חזה (או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?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דיקות עז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תפקודי נשימה (בשאלה של אסטמה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מנט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טיפול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אנטיביוטיק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70960" y="260280"/>
            <a:ext cx="8316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וצאות הבירור הראשוני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000000"/>
                </a:solidFill>
                <a:latin typeface="Verdana"/>
              </a:rPr>
              <a:t>צילום חזה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000000"/>
                </a:solidFill>
                <a:latin typeface="Verdana"/>
              </a:rPr>
              <a:t>ס. דם –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8.00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עם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אחוז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000000"/>
                </a:solidFill>
                <a:latin typeface="Verdana"/>
              </a:rPr>
              <a:t>באנדים ללא חריגות אחרות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החלטה על טיפול 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This picture shows a chest x-ray of pneumonia in the right lung "/>
          <p:cNvPicPr/>
          <p:nvPr/>
        </p:nvPicPr>
        <p:blipFill>
          <a:blip r:embed="rId2"/>
          <a:stretch/>
        </p:blipFill>
        <p:spPr>
          <a:xfrm>
            <a:off x="684360" y="1773360"/>
            <a:ext cx="3456000" cy="334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לאחר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Guttman Adii-Light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ימי טיפול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מצבו של יואב ללא שינוי משמעותי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הכאבים בחזה חלפו אך עדיין יש חו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שנע סביב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39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מעלות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בהאזנה כרגע קרפטיציות בריאה שמאל עליונ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1" lang="he-IL" sz="3000" spc="-1" strike="noStrike">
                <a:solidFill>
                  <a:srgbClr val="cc0000"/>
                </a:solidFill>
                <a:latin typeface="Verdana"/>
                <a:cs typeface="Guttman Adii-Light"/>
              </a:rPr>
              <a:t>מה עכשיו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2852640"/>
            <a:ext cx="800100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ner Hand ITC"/>
              </a:rPr>
              <a:t>Well, Watso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ner Hand ITC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Viner Hand ITC"/>
              </a:rPr>
              <a:t>we seem to have fallen upon evil day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Guttman Adii-Light"/>
              </a:rPr>
              <a:t>...במיון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יואב נשלח למיון להעמקת הבירור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בצילום חזה תסנינים הן בריאה ימין תחתונה וה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בריאה שמאל עליונה ובלינגולה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טורציה באוויר חדר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93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אחו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. דם – לויקוציטוזיס ובאנדמיה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P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– 350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he-IL" sz="3000" spc="-1" strike="noStrike">
                <a:solidFill>
                  <a:srgbClr val="cc0000"/>
                </a:solidFill>
                <a:latin typeface="Verdana"/>
              </a:rPr>
              <a:t>מה הבירור שהיית שולח במיון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בחנה מבדלת – דלקת ריאות חוזרת דיפוזית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ציסטיק פבירוזיס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אסטמה - (כולל ברונכופולמונרי אספרגילוזיס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שחפת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חוסר חיסוני - הפרעה ביצור נוגדנים, בעיה בפעילות אחד התאים (למשל בעיה בתפקוד נויטרופילים), בעיית משלים, תסמונות גנטיות בעלות הפרעה חיסונית, ובעיות שניוניות נרכשות על רקע מחלות כמו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V</a:t>
            </a: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, סכרת,אנמיה חרמשית וכדומה, חשיפה לתרופות אימונוסופרסיביות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אספירציה - עקב מצבים נוירולוגים ,מחלות עצב-שריר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      הפרעות ושתיות: רפלוקס, פיסטולה טרכיאו-איזופגיטלית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mary ciliary dyskines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מומי לב מולדים שונים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אחרים – וסקוליטיסים שונים (כגון וגנר),המוסידרוזיס ראתי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                   פרוטאינוזיס ראתי, חוסר באלפא-</a:t>
            </a: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 אנטי-טריפסין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בירור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דיקות דם "רחבות" – (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E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ואנטי טריפסין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?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תבחין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P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רולוגיה לכלמידיה ומיקופלסמ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CR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ללגיונל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רולוגיה 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V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ירור חיסוני  - (איזה ?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זמנה לתבחין זיע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יעוץ פולמונולוגי – בשאלה של הדמיה מתקדמ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260280"/>
            <a:ext cx="990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יזה טיפול היית בוחר  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000" spc="-1" strike="noStrike">
                <a:solidFill>
                  <a:srgbClr val="000000"/>
                </a:solidFill>
                <a:latin typeface="Verdana"/>
                <a:cs typeface="Guttman Hatzvi"/>
              </a:rPr>
              <a:t>רוצפין ואזניל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21640" y="189000"/>
            <a:ext cx="880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</a:rPr>
              <a:t>המשך הבירור...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בדיקת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PD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-  תקינ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תבחין זיעה  -   שליל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בירור סרולוגי -  שליל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CR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לליגיונלה - שליל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E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- תקי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הבירור החיסוני שנשלח (נוגדנים ומשלים) – תקין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מצבו של יואב ללא שיפור. ויש התקדמות בממצאים ההאזנתיים ורושם לנוזל בריאה ימין תחתונה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מומחה הריאות מבקש.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יואב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ואב הוא נער בן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מטופל במרפאתך מזה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שני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היסטוריה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- עד גיל שנה מספר אירועי קוצר נשימה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 שטופלו בהשאפה וחלפ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- עד גיל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דלקות אוזניים חוזרות ונוזלי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נזקק במספר אירועים לטיפול אנטיביוטי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לא נזקק לצינוריות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2565360"/>
            <a:ext cx="80010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My dear Watson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there we come into those  realms  of conjecture  where  the  most  logical mind  may  be  at  fault</a:t>
            </a:r>
            <a:r>
              <a:rPr b="0" lang="he-IL" sz="3600" spc="-1" strike="noStrike">
                <a:solidFill>
                  <a:srgbClr val="000000"/>
                </a:solidFill>
                <a:latin typeface="Viner Hand ITC"/>
              </a:rPr>
              <a:t> 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T</a:t>
            </a:r>
            <a:r>
              <a:rPr b="0" lang="he-IL" sz="3800" spc="-1" strike="noStrike">
                <a:solidFill>
                  <a:srgbClr val="000000"/>
                </a:solidFill>
                <a:latin typeface="Verdana"/>
              </a:rPr>
              <a:t> ריאות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מדגים תהליך דלקתי באיזורים שהודגמו בצילום החזה אבל בנוסף מדגים ה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e-IL" sz="3000" spc="-1" strike="noStrike" u="sng">
                <a:solidFill>
                  <a:srgbClr val="000000"/>
                </a:solidFill>
                <a:uFillTx/>
                <a:latin typeface="Verdana"/>
              </a:rPr>
              <a:t>נודולים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ראתיים מרובים בכל שטח הריאות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אין הגדלת בלוטות לימפה ראתיות 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he-IL" sz="3000" spc="-1" strike="noStrike">
                <a:solidFill>
                  <a:srgbClr val="0000ff"/>
                </a:solidFill>
                <a:latin typeface="Verdana"/>
                <a:cs typeface="Guttman Hatzvi"/>
              </a:rPr>
              <a:t>מה האבחנה המבדלת עכשיו 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נודולים ראתיים – אבחנה מבדלת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זיהומים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שחפ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זיהומים עם מיקובקטריה אטיפית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זיהום פטריית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תסחיפים ספטיי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חלות ממאירות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לימפומה וגידולים נוספי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חרים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 malform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סרקואידוזי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GD -chronic granulomatous diseas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ייעוצים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מטולוג –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סבירות נמוכה ללימפומה כרגע אין סיבה לרחבת הבירור בכיוון זה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יעוץ אימונולוגי –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כיוון שרמות המשלים , רמות נוגדנים כלליות ו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V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תקינים יש להתקדם הלאה בשאלה של הפרעה בתפקוד נויטרופילי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יעוץ פולמונולוגי –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יש לבצע....ברונכוסקופי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680400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There is so much red tape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in these matter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ודעה ממעבדה מיקרוביולוגית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צמיחה של חיידקים גראם שליליים בעלי תבנית גדילה שיכולה להתאים לפסוידומונס 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בחין זיעה – כזוב שליל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סיבות שכיחות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כמות זיעה קטנה מד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דרמטיטי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שימוש בסטרואידי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תייבש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גיל נבדק צעיר מאוד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תת תזונ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בחין זיעה – כזוב שליל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  <a:cs typeface="Guttman Hatzvi"/>
              </a:rPr>
              <a:t>סיבות אנדוקריניות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תת פעילות של בלוטת האדרנל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תת פעילות של בלוטת התריס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פאן-היפו-פיטואיטריז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תת פעילות משפחתית של בלוטת הפארא-תירואיד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דיאבטס אינסיפידוס שאינה מגיבה לואזופרסין או נפרוגנית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  <a:cs typeface="Guttman Hatzvi"/>
              </a:rPr>
              <a:t>סיבות מטבוליות וגנטיות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מחלות אגירת גליקוג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מוקופוליסכרידוזיס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פוקוזידוזיס מסוג </a:t>
            </a: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אקטודרמל דיספלזיה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כולסטזיס משפחתי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בחין זיעה – כזוב שליל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אחר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תת תזונה וחסר חלבוני</a:t>
            </a:r>
            <a:br>
              <a:rPr sz="3000"/>
            </a:b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אטופיק דרמטיטיס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רבית סופית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Burkholderia cepacia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יואב - המש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תפתחות תקינה, אחוזוני משקל וגובה –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דוע על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6PD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מאז לידתו עקב צהבת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על חגורה שחורה בקראט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משפחה – אסטמה קלה לא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6805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יכן ניתן למצוא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  <a:ea typeface="Guttman Adii-Light"/>
              </a:rPr>
              <a:t>Burkholderia cepacia</a:t>
            </a:r>
            <a:r>
              <a:rPr b="0" lang="he-IL" sz="3200" spc="-1" strike="noStrike">
                <a:solidFill>
                  <a:srgbClr val="000000"/>
                </a:solidFill>
                <a:latin typeface="Viner Hand ITC"/>
                <a:ea typeface="Guttman Adii-Light"/>
              </a:rPr>
              <a:t> ?</a:t>
            </a:r>
            <a:r>
              <a:rPr b="0" lang="he-IL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חוסרים חיסוניים – בעיקר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G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קטרמיות בפגי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לדים עם ממאירות ראתי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מוגלובינופתי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זיהום נוזוקומיאלי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7021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2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אם היית משנה את הטיפול התרופתי</a:t>
            </a:r>
            <a:r>
              <a:rPr b="0" i="1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Verdana"/>
              </a:rPr>
              <a:t>TMX</a:t>
            </a:r>
            <a:r>
              <a:rPr b="0" lang="he-IL" sz="3000" spc="-1" strike="noStrike">
                <a:solidFill>
                  <a:srgbClr val="0000ff"/>
                </a:solidFill>
                <a:latin typeface="Verdana"/>
              </a:rPr>
              <a:t> מוסף לטיפול הקודם עקב היעילות הסינרגיסטי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21640" y="189000"/>
            <a:ext cx="880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47640" y="2781360"/>
            <a:ext cx="7020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Come, friend Watson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the curtain rings u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for the  last act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</a:rPr>
              <a:t>לקינוח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האבחנה המבדלת כרגע היא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- חסר חיסוני – במקום הראשון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G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- מחלה ממאר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cc0000"/>
                </a:solidFill>
                <a:latin typeface="Verdana"/>
                <a:cs typeface="Guttman Hatzvi"/>
              </a:rPr>
              <a:t>מה האבחנה שלך ?</a:t>
            </a:r>
            <a:r>
              <a:rPr b="0" lang="he-IL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כמה מילים על </a:t>
            </a:r>
            <a:r>
              <a:rPr b="0" lang="en-US" sz="3800" spc="-1" strike="noStrike">
                <a:solidFill>
                  <a:srgbClr val="000000"/>
                </a:solidFill>
                <a:latin typeface="Baskerville Old Face"/>
                <a:ea typeface="Guttman Adii-Light"/>
              </a:rPr>
              <a:t>CG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שכיחות –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250.00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האנזים הפגום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DPH OXYD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מכיל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תת-יחידות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פגמים נמצאו עד היום ב-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מה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2/3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מהמקרים ביחידה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P91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– על כרומוזום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רגישות מיוחדת לחיידקים בעלי האנזים קאטאלא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אבחנה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B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he-IL" sz="2000" spc="-1" strike="noStrike">
                <a:solidFill>
                  <a:srgbClr val="000000"/>
                </a:solidFill>
                <a:latin typeface="Verdana"/>
              </a:rPr>
              <a:t> בעבר),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hydrorhodamine flow cytomet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טיפול – גאמא  אינטרפרו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738240" y="3116160"/>
            <a:ext cx="11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וד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אירוע הנוכח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ואב מספר על שיעול טורדני והרגשת חולש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שיעול מתרחש בכל שעות היו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חום נמדד פעמיים ונמצא כתקי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ש חבר קרוב המשתעל מזה כשבוע – ללא חו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אין תופעות נלו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בדיקתו הגופנית – קרפיטציות עדינות לסרוגין בריאה ימין תחתונה ואודם קל בל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אם יש מקום לבירור או לטיפו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Guttman Adii-Light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35920" y="260280"/>
            <a:ext cx="1322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442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זהמים שכיחים בדלקות </a:t>
            </a:r>
            <a:br>
              <a:rPr sz="3400"/>
            </a:b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ריאה בילדים בקהילה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454280" cy="446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524720" y="260280"/>
            <a:ext cx="990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זהמים </a:t>
            </a:r>
            <a:r>
              <a:rPr b="0" lang="hi-IN" sz="3400" spc="-1" strike="noStrike">
                <a:solidFill>
                  <a:srgbClr val="0000ff"/>
                </a:solidFill>
                <a:latin typeface="Verdana"/>
                <a:cs typeface="Guttman Adii-Light"/>
              </a:rPr>
              <a:t>לא-שכיחים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בדלקות </a:t>
            </a:r>
            <a:br>
              <a:rPr sz="3400"/>
            </a:b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ריאה בילדים בקהילה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960720" cy="368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16360" y="1773360"/>
            <a:ext cx="3743280" cy="362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524720" y="260280"/>
            <a:ext cx="990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זהמים שכיחים בגיל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Guttman Adii-Light"/>
              </a:rPr>
              <a:t>5-15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3076560"/>
            <a:ext cx="8281800" cy="1254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8208720" cy="1041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524720" y="260280"/>
            <a:ext cx="990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08:03:30Z</dcterms:created>
  <dc:creator>user</dc:creator>
  <dc:description/>
  <dc:language>en-US</dc:language>
  <cp:lastModifiedBy>Liora Zakai</cp:lastModifiedBy>
  <dcterms:modified xsi:type="dcterms:W3CDTF">2006-12-07T17:37:42Z</dcterms:modified>
  <cp:revision>96</cp:revision>
  <dc:subject/>
  <dc:title>המקרה המוזר של  הנער המשתעל</dc:title>
</cp:coreProperties>
</file>