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FA6-D310-4F8F-8333-C82D90A4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96A-FBAC-49D6-9CE2-9127DE74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959-349D-44D4-B535-3C10C19A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53B-C2BF-4D70-8DB3-846EC2D5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DA04-8B71-4376-81D3-808000DC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9F31-68E0-4ED6-A6D8-92FB09BE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29BC-A608-4960-B1CF-7C0F583E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54A6-35ED-4007-8562-A7E7CE58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2207-573B-4FCC-AFED-E0A5E8A6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BEF8-1D16-48EA-A65F-B05D208F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A04B-F13D-4E3C-BB11-6C37558E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77D-95C8-444F-8B16-282B5BCA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DF8E-3102-42C7-9406-D7659A4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A2C5-C336-424A-A48D-0C45606A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854-96CC-45E4-B109-F439DAA6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CFE8-3C40-4028-91BB-6139D10F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E7FC-F4BF-4E36-A17C-BEB68C78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952-3649-4BCA-8AA8-AC6982FB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8D9-FE95-4E70-A235-D4C6FC63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724-1E4B-4A7B-94FC-CBBF12BF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B1B-6B70-4C31-88D7-F0611D5B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027-E644-4E1C-A581-D78CCB08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88A-0F93-4F7D-B7B6-2451217F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8BE-3230-430B-ADC8-A5ACDE2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5DF9-9CA0-4944-973C-08A880F11EF5}" type="slidenum"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B3C4-0F83-4E6E-B56A-FB8E62CC5B9D}" type="slidenum"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The brain and the immun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Monotype Corsiva"/>
                <a:ea typeface="Times New Roman (Hebrew)"/>
              </a:rPr>
              <a:t>Mind over matt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81160" y="5805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eaeaea"/>
                </a:solidFill>
                <a:latin typeface="Times New Roman"/>
              </a:rPr>
              <a:t>ד"ר יוסי רימ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inic anatomy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t cells are accumulated near NE fib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een innervation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innervation to spleen is sympathe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nervation to white pu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pathetic innervation to periarte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mphatic sh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most no innervation to B cells follic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red pu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ymph node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radrenergic fibers to cortical and paracortical regions (T cells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innervation to medulla or germinal centers (B c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ne marrow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enough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rves end in parenchy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rves mature before immune cells dev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uration of immune cells nerve dependent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mast cell (S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macrop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T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synaptic NE releas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mphoid organs as thymus or spleen can store NE and release it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 from circulation can also be stor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PY is also released from nerves but only during high frequency stimulation, NE is released with slow frequency stim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synaptic NE rele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nsynaptic connection differ from synaptic 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usion distance is lar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tion is one to ma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is long and ton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ptors are high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ARs as recep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st innervation in lymphoid tissue non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0199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NPY conn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PY acts as neurotransmitter and modul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CNS and peripher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PY fibers supply mostly vascula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affect lymphocyte traff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vitro NPY suppresses NK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ytokines and S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70 Besedovsky : immune system sign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induced increase in plasma steroi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altered hypothalamic N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lowers NE in spl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SUPER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AP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NS                    IMMUNE S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2895480"/>
            <a:ext cx="990720" cy="7621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428640" y="2895480"/>
            <a:ext cx="1066680" cy="8384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191120"/>
            <a:ext cx="12952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241200"/>
            <a:ext cx="7315200" cy="6616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24560" y="615636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b5b"/>
                </a:solidFill>
                <a:latin typeface="Monotype Corsiva"/>
              </a:rPr>
              <a:t>Developmen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S and immune sys. develop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bitrh almost no innervation of lymphoid tissues by the S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nsity of neurons increase with a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n when thymus involution is pronounced no decrease in innerv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onatally sympathectomized rats show alteration in T B and NK activity and decrease in IgM produc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 has an influence on the immune system matu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matopoiesis and the S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mice NE and DA exhibit daily rhyth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has positive correlation with G2/M and S phases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exposed to pritoneal Pseudomon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ce respondes in 130% increase of NE turnover in bone marrow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matopoiesis and S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α1-A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tagonists increase blood granulocy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y also decrease spleen T and B cel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yelopoiesis is under sympathetic inhibition whereas lymphocyte production needs NE stimula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ytokine w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&amp; I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 produce increase in sympath. Activity in spl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1 IL-6 &amp; TNF- α activates CRH and trigger activation of SNS and H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CV infusion of IL-1 and INF- α decreas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eripheral and splenic NK cell activity and suppress mitogen respon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vidence to specific functional pathways in ANS controlled by distinct reflexes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NF-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α and IL-1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ystemic Vs. local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atically - NE incr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 - TNF decrease NE innervation in 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using elevation of AC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 -IL-1 elevates N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Times New Roman"/>
              </a:rPr>
              <a:t>Adrenoreceptors and lymphocytes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ta receptor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lymphoid cells express beta receptor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cept T help. Type 2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ptors density : NK&gt;mono&gt;Tc=B&gt;Th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cells also have beta A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osin. Baso. Neutrop. Thymo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MP response difference in the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ysiologic control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adrenergic recep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very complex multi-layer control mechanism with feed-backs between the CNS/SNS and the immune syst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T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crease receptors dens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eroids augment this effect further m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-proteins also play a major role i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AR regulation in immune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pha recep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ly found in JRA, induce IL-6 in response to stim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          </a:t>
            </a: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The historical l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8160" y="16002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2438280"/>
            <a:ext cx="0" cy="9907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8880" y="358128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PA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4419720"/>
            <a:ext cx="0" cy="9903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5495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5638680"/>
            <a:ext cx="39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MMUNE SY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pamine recep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1-D5 RECEP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3-D5 may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al role undetermined y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S and lymphocyte traffi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administration causes a quick lymphocyte mobiliz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ed by granulocyte increase and relative neutrop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mainly affect NK cells and granulocy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T or B cel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ute psychological stress or physical exercise cause transient lymphocytosis mainly NK cel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S and lymphocyte traffi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butaline is a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goni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 days of treatment cause Tc and NK redu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modulated NK circulation mainly via spleen-dependen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lymphocyte subpopulation have different sensitivity to C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EN00378_" descr=""/>
          <p:cNvPicPr/>
          <p:nvPr/>
        </p:nvPicPr>
        <p:blipFill>
          <a:blip r:embed="rId1"/>
          <a:stretch/>
        </p:blipFill>
        <p:spPr>
          <a:xfrm>
            <a:off x="2322360" y="1693800"/>
            <a:ext cx="4497480" cy="3468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593160" y="5334120"/>
            <a:ext cx="82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93360" y="914400"/>
            <a:ext cx="82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1 : INF-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γ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,IL-2 ,TNF-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2 : IL-4 ,IL-10 ,IL-13,IL-9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 be (Th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 or not to be (Th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re found on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n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gonist inhibit I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roduction by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effect on IL-4 production by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vivo – deralin causes increase in LPS induced T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roduction and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gonists inhib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866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ically -  CAs inhibit Th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function selectively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cholamines and signal pathwa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G-proteins are expressed in different cells and are activated by 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ositol phosphate increase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ctivatio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 PDE and PKA are the cytosolic medi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activated TNF-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 IL-12 are inhibi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10 production increa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s - the sequ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ophylline amrinone roliparm- PDE block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ent NO ,TNF-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 ,INF- and IL-12 production after LP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aning cAMP connection to proinflammatory  medi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2 production is inhibited by cAM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2 &amp; TNF has NF-Kb. IL-4,IL-10 don’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novel l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2400" y="175248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8640" y="3733920"/>
            <a:ext cx="29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mune sy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590920"/>
            <a:ext cx="0" cy="1066680"/>
          </a:xfrm>
          <a:prstGeom prst="line">
            <a:avLst/>
          </a:prstGeom>
          <a:ln cap="sq"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through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R-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MP supress type 1 but potentiate type 2 cytokine produc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al effect of CA may differ from systemic ones b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-AR stim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cellular immunity - 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have dual effect on NK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nephrine causes short &amp; transient increase of NK numb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 the other hand – CA cause inhibition of NK cell activ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hibition is reversed b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ntagoni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H (increase SNS activity) produce a decrease in NK cell activ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effect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steroid depende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ients with CHF – NE levels are very high. A positive correlation of NE levels and NK cells activ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cellular activity-macroph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roversi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inhibits mo.activation by I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stimulate mac, to suppress MAI b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AR w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ffect most probably depends on receptors bala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A and cellular activity–mast cell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ose anatomic relationship between sympathetic and peptidergic nerves and macrophage and mast cel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 and peripheral CRH are potent mast cell secretagogu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imulation of histamine release by α-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hibition by β-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7 costimulatory T cell receptor is CA regulated b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MP levels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cellular activity – neutroph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inhibit neutrophils phagocytosis &amp; neutrophils lysosomal relea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iratory burst also inhibi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AR stimulation decrease rate of superoxide produ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humoral immun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timulation elevate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P leve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B cells differentiate into plasma cel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7 molecule is up-regulate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 production by B cells enhance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ells provide the cytokines necessary to for B cells grow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jor inju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jor injuries or major surgical procedures often lead to immunosupress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ter trauma there is a biphasic response pattern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- sympathoadrenal st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 - HPA axis stimul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animal model suppression of cellular immunity is associated with low IL-12 and INF production and increase in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L-1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in trauma cause sympathetic storm and IL-10 elevation. High IL-10 levels correlated with high incidence of infe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nkoff 1899 – nerves enter lymph no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per &amp; Crouzon 1904 – leukocytosis af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renalin injec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higami 1919 – stress and inf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talnikov 1920 – immune sys and pavlo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uler 1946 – NE isolated from sple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70-80’s – cytokines and hormones are cross-talking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erenberg 1989 - Stress system and autoimmune d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NF and IL-1 produce a systemic response to endotoxi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ti-TNF and IL-1 receptor antagonist show small benef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y volunteeres challenged with endo toxin and pretreated with adrenalin had increased IL-10 levels and decrease TNF lev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ients with low preoperative IL-12 secretion ,by monocyte , had more sep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immune protocols be used in order to shift cells population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oimmun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ral autoimmune disease are characterized by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mbala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ANS/HPA axis influence autoimmunity in a complex w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hyporeactive SNS cause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hift and facilitate disease states like RA and MS 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hyper-reactive SNS cause Th2 shift and facilitate disease states like SLE 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UMOR GROW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2 levels are critical for tumor regres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al overproduction of IL-10 inhibits IL-12 production as well as TN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overproduction inhibits NK cells and Tc compromising resistance to metastas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18240" y="2438280"/>
            <a:ext cx="16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Monotype Corsiva"/>
              </a:rPr>
              <a:t>fin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5467320" cy="5800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42640" y="556272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b5b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natomy of the neuroimmun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ystem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PN-CRH and LC-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ymic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ymus is inervated along blood vess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postgang. sympath. Fibers to the corte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spar the medu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er cortex has the dancest in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immature thymocy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sculature in the corticomedullary par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richly inervated (migratio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2:54:37Z</dcterms:created>
  <dc:creator>user</dc:creator>
  <dc:description/>
  <dc:language>en-US</dc:language>
  <cp:lastModifiedBy>user</cp:lastModifiedBy>
  <dcterms:modified xsi:type="dcterms:W3CDTF">2005-09-05T07:14:15Z</dcterms:modified>
  <cp:revision>65</cp:revision>
  <dc:subject/>
  <dc:title>The brain and the immune system</dc:title>
</cp:coreProperties>
</file>