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3A229-B02E-4C58-BC3F-920CB7883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9AEE7-4005-45CF-9232-EB64BF74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434EE-3903-400A-9F63-ED4A4FF5B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ECC5B-0669-43B8-823F-C1D3C038D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0BC2-66BF-46AB-9415-A491500B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3B8D-F0DB-4B82-9DF8-E867FC15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87E7-194F-4A18-B144-7DB506A2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98B2-C817-43EB-B8E7-A8E0AC56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EA84-94E7-41AD-8AAC-25BE8F77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5F8E-04EF-4342-9126-D1E81B11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82CD-671E-473C-853D-287DA3BA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DAEFA-4D59-439F-9773-3D9BF8E9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BF43-8500-4CBD-A7BA-EABCCB1F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814D-084E-40D0-A521-8955CE81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5B3F-561A-437C-9F38-C555CFD0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4CE3-B492-457D-84AA-35C70522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E845-ED97-4EB2-923F-15D5EFCE8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3692C-0351-4B67-B072-56AB87B8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BDE0B-B254-40C3-BC93-30729709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97A67-9728-454F-A754-71CD6A41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1A806-EA3A-4982-A333-26F21681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97723-6B90-4424-B9CE-F925A016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030A7-02EE-425D-AFEC-D25866A2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E3B93-F6CF-4B57-8755-32651BE9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F96E-6BC9-4863-B52E-50CE5F2B9CDF}" type="slidenum">
              <a:rPr b="0" lang="he-I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094E-8249-49CF-81B9-DF4C8751672A}" type="slidenum">
              <a:rPr b="0" lang="he-I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hyperlink" Target="http://www.ballantines.dk/Media/DK/Activity/Image/Modules/Front/devil_angel.jpg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images.google.co.il/imgres?imgurl=http://www.yourhealthonline.ca/images/artImages/thermometer_lg.jpg&amp;imgrefurl=http://www.yourhealthonline.ca/article_layoutb.asp%3Fid%3D1&amp;h=143&amp;w=218&amp;sz=9&amp;tbnid=IF-_q92d7ZoJ:&amp;tbnh=66&amp;tbnw=101&amp;hl=iw&amp;start=40&amp;prev=/images%3Fq%3D%2Bfever%2Bbrain%26start%3D20%26hl%3Diw%26lr%3D%26sa%3DN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yourhealthonline.ca/images/artImages/thermometer_lg.jpg&amp;imgrefurl=http://www.yourhealthonline.ca/article_layoutb.asp%3Fid%3D1&amp;h=143&amp;w=218&amp;sz=9&amp;tbnid=IF-_q92d7ZoJ:&amp;tbnh=66&amp;tbnw=101&amp;hl=iw&amp;start=40&amp;prev=/images%3Fq%3D%2Bfever%2Bbrain%26start%3D20%26hl%3Diw%26lr%3D%26sa%3DN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hyperlink" Target="http://www.ballantines.dk/Media/DK/Activity/Image/Modules/Front/devil_angel.jpg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home.comcast.net/~eschermc/Reptiles.jpg&amp;imgrefurl=http://home.comcast.net/~eschermc/&amp;h=715&amp;w=830&amp;sz=74&amp;tbnid=jEmuql7MpWMJ:&amp;tbnh=123&amp;tbnw=143&amp;hl=iw&amp;start=62&amp;prev=/images%3Fq%3Dreptiles%26start%3D60%26hl%3Diw%26lr%3D%26sa%3DN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bioweb.uwlax.edu/zoolab/Table_of_Contents/Lab-9a/Mammals/Lab_9a-21a.jpg&amp;imgrefurl=http://bioweb.uwlax.edu/zoolab/Table_of_Contents/Lab-9a/Mammals/mammals.htm&amp;h=300&amp;w=422&amp;sz=33&amp;tbnid=1mhlHKPzt0wJ:&amp;tbnh=86&amp;tbnw=121&amp;hl=iw&amp;start=99&amp;prev=/images%3Fq%3Dmammals%26start%3D80%26hl%3Diw%26lr%3D%26sa%3DN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talkorigins.org/faqs/homs/sapiens.gif&amp;imgrefurl=http://www.talkorigins.org/faqs/homs/compare.html&amp;h=252&amp;w=245&amp;sz=6&amp;tbnid=tctDqZ7AqrQJ:&amp;tbnh=106&amp;tbnw=103&amp;hl=iw&amp;start=64&amp;prev=/images%3Fq%3Dhuman%26start%3D60%26hl%3Diw%26lr%3D%26sa%3DN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talkorigins.org/faqs/homs/sapiens.gif&amp;imgrefurl=http://www.talkorigins.org/faqs/homs/compare.html&amp;h=252&amp;w=245&amp;sz=6&amp;tbnid=tctDqZ7AqrQJ:&amp;tbnh=106&amp;tbnw=103&amp;hl=iw&amp;start=64&amp;prev=/images%3Fq%3Dhuman%26start%3D60%26hl%3Diw%26lr%3D%26sa%3DN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talkorigins.org/faqs/homs/sapiens.gif&amp;imgrefurl=http://www.talkorigins.org/faqs/homs/compare.html&amp;h=252&amp;w=245&amp;sz=6&amp;tbnid=tctDqZ7AqrQJ:&amp;tbnh=106&amp;tbnw=103&amp;hl=iw&amp;start=64&amp;prev=/images%3Fq%3Dhuman%26start%3D60%26hl%3Diw%26lr%3D%26sa%3DN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talkorigins.org/faqs/homs/sapiens.gif&amp;imgrefurl=http://www.talkorigins.org/faqs/homs/compare.html&amp;h=252&amp;w=245&amp;sz=6&amp;tbnid=tctDqZ7AqrQJ:&amp;tbnh=106&amp;tbnw=103&amp;hl=iw&amp;start=64&amp;prev=/images%3Fq%3Dhuman%26start%3D60%26hl%3Diw%26lr%3D%26sa%3DN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talkorigins.org/faqs/homs/sapiens.gif&amp;imgrefurl=http://www.talkorigins.org/faqs/homs/compare.html&amp;h=252&amp;w=245&amp;sz=6&amp;tbnid=tctDqZ7AqrQJ:&amp;tbnh=106&amp;tbnw=103&amp;hl=iw&amp;start=64&amp;prev=/images%3Fq%3Dhuman%26start%3D60%26hl%3Diw%26lr%3D%26sa%3DN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talkorigins.org/faqs/homs/sapiens.gif&amp;imgrefurl=http://www.talkorigins.org/faqs/homs/compare.html&amp;h=252&amp;w=245&amp;sz=6&amp;tbnid=tctDqZ7AqrQJ:&amp;tbnh=106&amp;tbnw=103&amp;hl=iw&amp;start=64&amp;prev=/images%3Fq%3Dhuman%26start%3D60%26hl%3Diw%26lr%3D%26sa%3DN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gettingfoodstamps.org/images/question.jpg&amp;imgrefurl=http://www.gettingfoodstamps.org/rights.htm&amp;h=214&amp;w=300&amp;sz=7&amp;tbnid=pBEbCXjjBy8J:&amp;tbnh=79&amp;tbnw=111&amp;hl=iw&amp;start=3&amp;prev=/images%3Fq%3Dquestion%26hl%3Diw%26lr%3D%26sa%3D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hyperlink" Target="http://www.ballantines.dk/Media/DK/Activity/Image/Modules/Front/devil_angel.jpg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images.google.co.il/imgres?imgurl=http://www.rcvr.org/scuole/negrar/media/lavori/temperatura/faren.jpg&amp;imgrefurl=http://www.rcvr.org/scuole/negrar/media/lavori/temperatura/tem.htm&amp;h=240&amp;w=240&amp;sz=18&amp;tbnid=BKTOCKX4tu0J:&amp;tbnh=104&amp;tbnw=104&amp;hl=iw&amp;start=9&amp;prev=/images%3Fq%3Dfahrenheit%2Bgabriel%26hl%3Diw%26lr%3D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hyperlink" Target="http://www.ballantines.dk/Media/DK/Activity/Image/Modules/Front/devil_angel.jpg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hyperlink" Target="http://www.ballantines.dk/Media/DK/Activity/Image/Modules/Front/devil_angel.jpg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547280" y="2636640"/>
            <a:ext cx="61563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Monotype Corsiva"/>
              </a:rPr>
              <a:t>FEVER-</a:t>
            </a:r>
            <a:br>
              <a:rPr sz="6600"/>
            </a:br>
            <a:r>
              <a:rPr b="0" lang="en-US" sz="6600" spc="-1" strike="noStrike">
                <a:solidFill>
                  <a:srgbClr val="ffff00"/>
                </a:solidFill>
                <a:latin typeface="Monotype Corsiva"/>
              </a:rPr>
              <a:t>one very hot topic</a:t>
            </a:r>
            <a:endParaRPr b="0" lang="en-US" sz="66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333600" cy="226692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1419840" y="517680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ff"/>
                </a:solidFill>
                <a:latin typeface="Arial"/>
              </a:rPr>
              <a:t>ד"ר יוסי רימ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834920" y="673200"/>
            <a:ext cx="675468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ההיסטוריה של מדידת חום - ו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24000" y="256536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ההתיחסות הראשונה לחום היא בכתבים אכדים במאה ה-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לפני הספירה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המכשיר הראשון למדידת טמפרטורת סביבה מתועד למאה השניה טרם הספיר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מדידת חום מדויק בהקשר רופאי החלה רק בשנת 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186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4"/>
          <a:stretch/>
        </p:blipFill>
        <p:spPr>
          <a:xfrm>
            <a:off x="250920" y="333360"/>
            <a:ext cx="1420560" cy="198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ההסטוריה של מדידת חום-וו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979640" y="1197000"/>
            <a:ext cx="66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בשנת 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1868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החל קארל אוגוסט ריינהולד וולנדרליך למדוד חום במתנדבי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במהלך השנים הוא תעד כמליון ! מדידות על 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25000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מתנדבים שונים – ופרסם את תצפיותיו ב"אופוס מגנום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המדידות בוצעו ע"י מדחום מתחת לבית-השח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היום ידוע שהמדחומים בהם השתמש לא כוילו כראו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למרות  שחלפו 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150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שנה קביעותיו של וונדרליך עדיין  משמשות  כאבן  הפינה  בהתיחסות לחום גוף תקין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1492200" cy="208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ההיסטוריה של מדידת חום -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I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700000" y="1413000"/>
            <a:ext cx="54054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וונדרליך קבע מספר "קבועי חום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שעימם אנו חיים גם כיו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חום גוף תקין  - </a:t>
            </a:r>
            <a:r>
              <a:rPr b="0" lang="he-IL" sz="2800" spc="-1" strike="noStrike">
                <a:solidFill>
                  <a:srgbClr val="ff0066"/>
                </a:solidFill>
                <a:latin typeface="Arial"/>
              </a:rPr>
              <a:t>98.6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פרנהיי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he-IL" sz="2800" spc="-1" strike="noStrike">
                <a:solidFill>
                  <a:srgbClr val="ff0066"/>
                </a:solidFill>
                <a:latin typeface="Arial"/>
              </a:rPr>
              <a:t>37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צלזיו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חום גוף פתולוגי- </a:t>
            </a:r>
            <a:r>
              <a:rPr b="0" lang="he-IL" sz="2800" spc="-1" strike="noStrike">
                <a:solidFill>
                  <a:srgbClr val="ff0066"/>
                </a:solidFill>
                <a:latin typeface="Arial"/>
              </a:rPr>
              <a:t>100.4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פרנהיי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he-IL" sz="2800" spc="-1" strike="noStrike">
                <a:solidFill>
                  <a:srgbClr val="ff0066"/>
                </a:solidFill>
                <a:latin typeface="Arial"/>
              </a:rPr>
              <a:t>38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צלזיו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4"/>
          <a:stretch/>
        </p:blipFill>
        <p:spPr>
          <a:xfrm>
            <a:off x="250920" y="260280"/>
            <a:ext cx="1611360" cy="225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500"/>
                            </p:stCondLst>
                            <p:childTnLst>
                              <p:par>
                                <p:cTn id="30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000"/>
                            </p:stCondLst>
                            <p:childTnLst>
                              <p:par>
                                <p:cTn id="30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500"/>
                            </p:stCondLst>
                            <p:childTnLst>
                              <p:par>
                                <p:cTn id="31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האם וונדרליך שגה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339640" y="1196640"/>
            <a:ext cx="63356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ical appraisal of 98.6 degrees F, the upper limit of the normal body temperature, and other legacies of Carl Reinhold August Wunderli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ckowiak PA, Wasserman SS, Levine MM.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MA. 1992 Sep 23-30;268(12):1578-8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542960" cy="216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האם לילדים חום גוף שונה מלבוגרים</a:t>
            </a: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Fever ? Normal Temperature in Infants Less Than 3 Months 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rzog LW, Coyne LJ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n Pediatr 1993;32:142-1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4648320" y="1600200"/>
          <a:ext cx="4038120" cy="4532400"/>
        </p:xfrm>
        <a:graphic>
          <a:graphicData uri="http://schemas.openxmlformats.org/drawingml/2006/table">
            <a:tbl>
              <a:tblPr/>
              <a:tblGrid>
                <a:gridCol w="1180440"/>
                <a:gridCol w="1721160"/>
                <a:gridCol w="1136520"/>
              </a:tblGrid>
              <a:tr h="1132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99ff"/>
                          </a:solidFill>
                          <a:latin typeface="Times New Roman"/>
                          <a:ea typeface="Times New Roman"/>
                        </a:rPr>
                        <a:t>Age in day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99ff"/>
                          </a:solidFill>
                          <a:latin typeface="Times New Roman"/>
                          <a:ea typeface="Times New Roman"/>
                        </a:rPr>
                        <a:t>Mean tempera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99ff"/>
                          </a:solidFill>
                          <a:latin typeface="Times New Roman"/>
                          <a:ea typeface="Times New Roman"/>
                        </a:rPr>
                        <a:t>Mean </a:t>
                      </a:r>
                      <a:r>
                        <a:rPr b="1" lang="en-US" sz="1200" spc="-1" strike="noStrike">
                          <a:solidFill>
                            <a:srgbClr val="9999ff"/>
                          </a:solidFill>
                          <a:latin typeface="Times New Roman"/>
                          <a:ea typeface="Times New Roman"/>
                        </a:rPr>
                        <a:t>+ 2 S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99ff"/>
                          </a:solidFill>
                          <a:latin typeface="Times New Roman"/>
                          <a:ea typeface="Times New Roman"/>
                        </a:rPr>
                        <a:t>Birth-30 day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7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8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99ff"/>
                          </a:solidFill>
                          <a:latin typeface="Times New Roman"/>
                          <a:ea typeface="Times New Roman"/>
                        </a:rPr>
                        <a:t>31-60 day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7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8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99ff"/>
                          </a:solidFill>
                          <a:latin typeface="Times New Roman"/>
                          <a:ea typeface="Times New Roman"/>
                        </a:rPr>
                        <a:t>61-91 day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7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8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שאלות בהן נדון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באילו סקלות נמדד חו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מהי ההגדרה של חו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ההיסטוריה של מדידת החו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0066"/>
                </a:solidFill>
                <a:latin typeface="Arial"/>
              </a:rPr>
              <a:t>הפיזיולוגיה של החום - תרמורגולצי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חום - רע נסבל או טוב הכרחי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איך מודדים חום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איך מורידים חום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24000" y="404640"/>
            <a:ext cx="128268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9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תרמורגולציה-פזיולוגיה של חום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פירוגנים אנדוגנים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-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NF-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NT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פירוגנים אקסוגני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פירוגנים שלא דרך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GE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P-1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5280" y="404640"/>
            <a:ext cx="12826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691200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468360" y="374760"/>
            <a:ext cx="7920000" cy="56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Monotype Corsiva"/>
              </a:rPr>
              <a:t>“</a:t>
            </a:r>
            <a:r>
              <a:rPr b="0" i="1" lang="en-US" sz="3600" spc="-1" strike="noStrike">
                <a:solidFill>
                  <a:srgbClr val="ffff00"/>
                </a:solidFill>
                <a:latin typeface="Monotype Corsiva"/>
              </a:rPr>
              <a:t>Heat is the immortal substance of life endowed with intelligence….if refrigeration is not provided , the heat will consume itself”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5651280" y="3886200"/>
            <a:ext cx="212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3200" spc="-1" strike="noStrike">
                <a:solidFill>
                  <a:srgbClr val="ffff00"/>
                </a:solidFill>
                <a:latin typeface="Arial"/>
              </a:rPr>
              <a:t>היפוקרט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55280" y="2637000"/>
            <a:ext cx="8101080" cy="27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Monotype Corsiva"/>
              </a:rPr>
              <a:t> </a:t>
            </a:r>
            <a:r>
              <a:rPr b="0" i="1" lang="en-US" sz="4800" spc="-1" strike="noStrike">
                <a:solidFill>
                  <a:srgbClr val="ffff00"/>
                </a:solidFill>
                <a:latin typeface="Monotype Corsiva"/>
              </a:rPr>
              <a:t>"Fever itself is Nature's instrument."</a:t>
            </a:r>
            <a:br>
              <a:rPr sz="4800"/>
            </a:br>
            <a:br>
              <a:rPr sz="2800"/>
            </a:br>
            <a:r>
              <a:rPr b="0" i="1" lang="en-US" sz="4800" spc="-1" strike="noStrike">
                <a:solidFill>
                  <a:srgbClr val="ffff00"/>
                </a:solidFill>
                <a:latin typeface="Monotype Corsiva"/>
              </a:rPr>
              <a:t>                    -</a:t>
            </a:r>
            <a:r>
              <a:rPr b="0" i="1" lang="en-US" sz="2800" spc="-1" strike="noStrike">
                <a:solidFill>
                  <a:srgbClr val="ffff00"/>
                </a:solidFill>
                <a:latin typeface="Monotype Corsiva"/>
              </a:rPr>
              <a:t>Thomas Sydenham (1624-89)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 </a:t>
            </a:r>
            <a:br>
              <a:rPr sz="4800"/>
            </a:b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8" name="" descr="Thomas Sydenham [1624-1689]"/>
          <p:cNvPicPr/>
          <p:nvPr/>
        </p:nvPicPr>
        <p:blipFill>
          <a:blip r:embed="rId1"/>
          <a:stretch/>
        </p:blipFill>
        <p:spPr>
          <a:xfrm>
            <a:off x="179280" y="189000"/>
            <a:ext cx="1387440" cy="17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979280" y="274680"/>
            <a:ext cx="6707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שאלה : האם חום הגוף יכול להגיע ל-</a:t>
            </a: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42</a:t>
            </a: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 מעלות עקב זיהום חיידקי</a:t>
            </a: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855480" y="2781360"/>
            <a:ext cx="65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ffff"/>
                </a:solidFill>
                <a:latin typeface="Arial"/>
              </a:rPr>
              <a:t>כ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869840" y="2781360"/>
            <a:ext cx="88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ffff"/>
                </a:solidFill>
                <a:latin typeface="Arial"/>
              </a:rPr>
              <a:t>לא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140976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7" dur="20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41128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תקרת הזכוכית של יצור החום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קריוגנים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סטרואידי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-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476280"/>
            <a:ext cx="1282680" cy="83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שאלות בהן נדון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באילו סקלות נמדד חו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מהי ההגדרה של חו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ההיסטוריה של מדידת החו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הפיזיולוגיה של החום - תרמורגולצי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0066"/>
                </a:solidFill>
                <a:latin typeface="Arial"/>
              </a:rPr>
              <a:t>חום - רע נסבל או טוב הכרחי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איך מודדים חום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איך מורידים חום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24000" y="404640"/>
            <a:ext cx="128268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9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674856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5219280" y="475920"/>
            <a:ext cx="2957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9999ff"/>
                </a:solidFill>
                <a:latin typeface="Arial"/>
              </a:rPr>
              <a:t>שמור אבולוציוני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למה להוריד חום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שינוי התנהגות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מניעת פרכוסי חו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שינוי בתחלואה ובתמות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7928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שאלה : האם הורדת חום עוזרת להחלמה</a:t>
            </a: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071480" y="2492280"/>
            <a:ext cx="65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ffff"/>
                </a:solidFill>
                <a:latin typeface="Arial"/>
              </a:rPr>
              <a:t>כ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446200" y="2492280"/>
            <a:ext cx="88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ffff"/>
                </a:solidFill>
                <a:latin typeface="Arial"/>
              </a:rPr>
              <a:t>לא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1409760" cy="100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2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0" y="19159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ver and survival.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luger MJ, Ringler DH, Anver M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ien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7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 188:166 8</a:t>
            </a: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ver: effect of drug-induced antipyresis on surviv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rnheim HA, Kluger MJ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ien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7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 193:237 9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708360" y="692280"/>
            <a:ext cx="496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00"/>
                </a:solidFill>
                <a:latin typeface="Arial"/>
              </a:rPr>
              <a:t>חום בזוחלים – טוב או רע</a:t>
            </a:r>
            <a:r>
              <a:rPr b="0" lang="he-I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ffff00"/>
                </a:solidFill>
                <a:latin typeface="Arial"/>
              </a:rPr>
              <a:t>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1656000" cy="14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066920" y="333000"/>
            <a:ext cx="48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00"/>
                </a:solidFill>
                <a:latin typeface="Arial"/>
              </a:rPr>
              <a:t>חום ביונקים - טוב או רע</a:t>
            </a:r>
            <a:r>
              <a:rPr b="0" lang="he-I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nfluence of environmental temperature on the course of experimental herpes simplex infe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midt JR, Rasmussen AF J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 Infect Di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6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 107:356 6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tors influencing host-virus interactions. III. Further studies on the alteration of Coxsackie virus infection in adult mice by environmental temperatur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lker DL, Boring W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 Immunol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5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ffects of high ambient temperature on various stages of rabies virus infection in mic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ll JF, Moore 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 Infect Immun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7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 10:510 5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153648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אספירין וזיהום ברינו-וירוסי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6840" y="2349000"/>
            <a:ext cx="7715160" cy="37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d viral shedding with aspirin treatment of rhinovirus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nley ED, Jackson GG, Panusarn C, et al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M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7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 231:1248 5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60280"/>
            <a:ext cx="130824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הורדת חום וזיהום ברינו וירוסים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6840" y="2421000"/>
            <a:ext cx="800244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erse effects of aspirin, acetaminophen, and ibuprofen on immune function, viral shedding, and clinical status in rhinovirus-infected volunte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raham MH, Burrell CJ, Douglas RM, et al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 Infect Di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 162:1277 82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130788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תיאור מקרה</a:t>
            </a:r>
            <a:r>
              <a:rPr b="0" lang="he-IL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ילד בן 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15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 חודש, אמא בת 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22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, סבתא בת 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4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חום בבית – מדידה באוזן 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40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אינו מגיב לאקמו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התנגד לאמבטית מים קרי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בקיעת שן מולרית מזה 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 ימי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עירני וחיונ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טמפרטורה רקטלית –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39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700"/>
                            </p:stCondLst>
                            <p:childTnLst>
                              <p:par>
                                <p:cTn id="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250"/>
                            </p:stCondLst>
                            <p:childTnLst>
                              <p:par>
                                <p:cTn id="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400"/>
                            </p:stCondLst>
                            <p:childTnLst>
                              <p:par>
                                <p:cTn id="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800"/>
                            </p:stCondLst>
                            <p:childTnLst>
                              <p:par>
                                <p:cTn id="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300"/>
                            </p:stCondLst>
                            <p:childTnLst>
                              <p:par>
                                <p:cTn id="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300"/>
                            </p:stCondLst>
                            <p:childTnLst>
                              <p:par>
                                <p:cTn id="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הורדת חום בילדים בזמן אבעבועות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0755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: more harm than good for chickenpox?</a:t>
            </a:r>
            <a:br>
              <a:rPr sz="2800"/>
            </a:b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oran TF, De Angelis C, Baumgardner RA, Mellits ED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 Pediatr. 1989 Jun;114(6):1045-8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60280"/>
            <a:ext cx="130824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טיפול בפאראצטמול בזמן זיהום במלריה</a:t>
            </a:r>
            <a:r>
              <a:rPr b="0" lang="he-IL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6840" y="2205000"/>
            <a:ext cx="821844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ffect of paracetamol on parasite clearance time in Plasmodium falciparum malaria.</a:t>
            </a:r>
            <a:br>
              <a:rPr sz="2800"/>
            </a:br>
            <a:br>
              <a:rPr sz="28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randts CH, Ndjave M, Graninger W, Kremsner PG.</a:t>
            </a:r>
            <a:br>
              <a:rPr sz="28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cet. 1997 Sep 6;350(9079):704-9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130788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פאראצטמול בזמן זיהום חיידקי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6840" y="2205000"/>
            <a:ext cx="814716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sks of antipyretics in young children with fever due to infectious disease.</a:t>
            </a:r>
            <a:br>
              <a:rPr sz="2800"/>
            </a:br>
            <a:br>
              <a:rPr sz="28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gimura T, Fujimoto T, Motoyama H, Maruoka T, Korematu S, Asakuno Y, Hayakawa H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a Paediatr Jpn. 1994 Aug;36(4):375-8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60280"/>
            <a:ext cx="130788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835280" y="274680"/>
            <a:ext cx="685152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שאלה : האם יש קורלציה בין התגובה למורידי חום וחומרת או מהות המחלה</a:t>
            </a: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91520" cy="37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ירידה גדולה יותר בחום – מחלה קלה יות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ירידה גדולה יותר בחום – מחלה קשה יותר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אין קשר בין עוצמת הירידה ועוצמת המחל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4"/>
          <a:stretch/>
        </p:blipFill>
        <p:spPr>
          <a:xfrm>
            <a:off x="250920" y="404640"/>
            <a:ext cx="140976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03" dur="5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4" dur="250" autoRev="1" fill="hold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5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6" dur="500" autoRev="1" fill="hold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507" dur="500" autoRev="1" fill="hold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508" dur="500" autoRev="1" fill="hold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תגובה לאקמול כאמצעי לאבחנה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ildhood fever: correlation of diagnosis with temperature response to acetaminophen.</a:t>
            </a:r>
            <a:br>
              <a:rPr sz="3200"/>
            </a:br>
            <a:br>
              <a:rPr sz="32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ker MD, Fosarelli PD, Carpenter RO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diatrics. 1987 Sep;80(3):315-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היכן מודדים חום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טמפ' הליבה – נמדדת בעורק הפולמונר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פה- מתחת ללשון (בכיס הלשון האחורי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פי הטבע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אוז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בית השח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עור – מגע, טרמיסטור חיצוני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          (עבור כל 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מ"מ עומק יש עליה של 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מעלה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יחסי הטמפ' בין איזורי המדידה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טמפ' הליבה – העורק הפולמונר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טמפ' בפה – נמוכה ב-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0.4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מעלות מטמפ' הליב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טמפ' רקטלית – גבוה ב-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0.2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מעלות מהליב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הטמפ' באוזן – לא ברור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הטמפ' בעור – לא ברור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האם ניתן לזהות חום במגע יד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brief report on the normal range of forehead temperature as determined by noncontact, handheld, infrared thermometer.</a:t>
            </a:r>
            <a:br>
              <a:rPr sz="2000"/>
            </a:br>
            <a:br>
              <a:rPr sz="18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g DK, Chan CH, Chan EY, Kwok KL, Chow PY, Lau WF, Ho J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 J Infect Control. 2005 May;33(4):227-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971640" y="3876840"/>
            <a:ext cx="7632720" cy="25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Verdana"/>
              </a:rPr>
              <a:t>מדידת טמפ' מצחית בעזרת קרינה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R</a:t>
            </a:r>
            <a:r>
              <a:rPr b="0" lang="he-IL" sz="2000" spc="-1" strike="noStrike">
                <a:solidFill>
                  <a:srgbClr val="ffffff"/>
                </a:solidFill>
                <a:latin typeface="Verdana"/>
              </a:rPr>
              <a:t> העלתה חומים שבין </a:t>
            </a:r>
            <a:r>
              <a:rPr b="0" lang="he-IL" sz="2000" spc="-1" strike="noStrike">
                <a:solidFill>
                  <a:srgbClr val="ffffff"/>
                </a:solidFill>
                <a:latin typeface="Verdana"/>
              </a:rPr>
              <a:t>31-35.6</a:t>
            </a:r>
            <a:r>
              <a:rPr b="0" lang="he-IL" sz="2000" spc="-1" strike="noStrike">
                <a:solidFill>
                  <a:srgbClr val="ffffff"/>
                </a:solidFill>
                <a:latin typeface="Verdana"/>
              </a:rPr>
              <a:t> מעלו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Verdana"/>
              </a:rPr>
              <a:t>1000</a:t>
            </a:r>
            <a:r>
              <a:rPr b="0" lang="he-IL" sz="2000" spc="-1" strike="noStrike">
                <a:solidFill>
                  <a:srgbClr val="ffffff"/>
                </a:solidFill>
                <a:latin typeface="Verdana"/>
              </a:rPr>
              <a:t> נבדקים, </a:t>
            </a:r>
            <a:r>
              <a:rPr b="0" lang="he-IL" sz="20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he-IL" sz="2000" spc="-1" strike="noStrike">
                <a:solidFill>
                  <a:srgbClr val="ffffff"/>
                </a:solidFill>
                <a:latin typeface="Verdana"/>
              </a:rPr>
              <a:t> מכשירי חישה שונים , השוואה למד-חום דיגיטל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Verdana"/>
              </a:rPr>
              <a:t>אמינות השיטה לא ברורה ואין תמיד קורלציה עם מד-החום הדיגיטלי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Ability of mothers to assess the presence of fever in their children without using a thermometer.</a:t>
            </a:r>
            <a:br>
              <a:rPr sz="2400"/>
            </a:br>
            <a:br>
              <a:rPr sz="1800"/>
            </a:br>
            <a:r>
              <a:rPr b="1" lang="en-US" sz="1800" spc="-1" strike="noStrike">
                <a:solidFill>
                  <a:srgbClr val="dfdef6"/>
                </a:solidFill>
                <a:latin typeface="Arial"/>
              </a:rPr>
              <a:t>Alves JG, Correia Jde B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Trop Doct. 2002 Jul;32(3):145-6. 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9640" y="2565360"/>
            <a:ext cx="78487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אמהות ממעמד סוציואקונומי נמוך (ברזיל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רק ל-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21%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היה מדחום בבית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76%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זיהו נכונה קיום חו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90%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זיהו נכונה חום גוף תקי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Reliability of perception of fever by touch.</a:t>
            </a:r>
            <a:br>
              <a:rPr sz="2000"/>
            </a:b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Chaturvedi D, Vilhekar KY, Chaturvedi P, Bharambe MS.</a:t>
            </a:r>
            <a:br>
              <a:rPr sz="2000"/>
            </a:b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Indian J Pediatr. 2003 Nov;70(11):</a:t>
            </a:r>
            <a:br>
              <a:rPr sz="2000"/>
            </a:b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569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ילדים עם חו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קבוצה א : 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ילדים עד גיל שנ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קבוצה ב : 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ילדים בני 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6-12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שני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הרופאים וההורים רשמו האם יש חו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לאחר מכן נבדק חום רקטל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75%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זיהו קיום חו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HELP !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250" autoRev="1" fill="hold"/>
                                        <p:tgtEl>
                                          <p:spTgt spid="5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627280" y="40428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שאלה : האם הורים יכולים לזהות את השפעת האקמול</a:t>
            </a: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134760" y="2492280"/>
            <a:ext cx="65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ffff"/>
                </a:solidFill>
                <a:latin typeface="Arial"/>
              </a:rPr>
              <a:t>כ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085840" y="2492280"/>
            <a:ext cx="88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ffff"/>
                </a:solidFill>
                <a:latin typeface="Arial"/>
              </a:rPr>
              <a:t>לא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141800" y="36147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140976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871280" y="40428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טיפול בפאראצטמול בזמן מחלות חום וירליות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9152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sks and benefits of paracetamol antipyresis in young children with fever of presumed viral origin.</a:t>
            </a:r>
            <a:br>
              <a:rPr sz="2800"/>
            </a:br>
            <a:br>
              <a:rPr sz="28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ramer MS, Naimark LE, Roberts-Brauer R, McDougall A, Leduc DG.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cet. 1991 Mar 9;337(8741):591-4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333360"/>
            <a:ext cx="130824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מה זה מדחום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0066"/>
                </a:solidFill>
                <a:latin typeface="Arial"/>
              </a:rPr>
              <a:t>כל מכשיר המסוגל למדוד חום גו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דרגת דיוק של 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0.1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מעלות בטווח של 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37-39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מעלו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0.2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מעלות בטווח של 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39-41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מעלו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0.3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מעלות בטווח שמעל 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41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מעלות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604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מדחומי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362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מדחום כספית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99ff"/>
                </a:solidFill>
                <a:latin typeface="Arial"/>
              </a:rPr>
              <a:t>יתרונות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: אמין, זו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0066"/>
                </a:solidFill>
                <a:latin typeface="Arial"/>
              </a:rPr>
              <a:t>חסרונות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: זמן הגעה לטמפ' מקסימלית 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5-8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ד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         לעיתים קושי בקריאת התוצא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         מכיל כספי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00"/>
                </a:solidFill>
                <a:latin typeface="Arial"/>
              </a:rPr>
              <a:t>לסיכום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:  לא מומלץ  בעיקר עקב סכנת שבירה וזיהו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        הסביבה בכספית, ככל הנראה המדחום המדוי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         ביותר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44604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מדחומים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29152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מדחום דיגיטל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בבסיסו עומד טרמיסטור שהינו רכיב המשנה את התנגדותו לזרם חשמלי כתלות בטמפרטורה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e-IL" sz="2400" spc="-1" strike="noStrike">
                <a:solidFill>
                  <a:srgbClr val="3399ff"/>
                </a:solidFill>
                <a:latin typeface="Arial"/>
              </a:rPr>
              <a:t> יתרונות</a:t>
            </a:r>
            <a:r>
              <a:rPr b="0" lang="he-I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: צג פשוט וברו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                זמן מדידה קצ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                לא נשבר בקלו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                זו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e-IL" sz="2400" spc="-1" strike="noStrike">
                <a:solidFill>
                  <a:srgbClr val="ff0066"/>
                </a:solidFill>
                <a:latin typeface="Arial"/>
              </a:rPr>
              <a:t>חסרונות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 : נטיה לסחיפה של ערכי המדיד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                 לא ניתן לדעת מתי מזיי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   לסיכום   :  </a:t>
            </a:r>
            <a:r>
              <a:rPr b="0" lang="he-IL" sz="2400" spc="-1" strike="noStrike">
                <a:solidFill>
                  <a:srgbClr val="3399ff"/>
                </a:solidFill>
                <a:latin typeface="Arial"/>
              </a:rPr>
              <a:t>האפשרות המומלצת כיו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444240" cy="202248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2050920" y="2997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מדחומי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מודדי חום בתעלת האוז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מחזור הדם של התופית מגיע מהקרוטיד הפנימי ולכן חום התופית משקף די בנאמנות את חום הליבה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המכשירים בנויים מקולט קרינה אינפרא-אדומה המבצע עיבוד של המידע הנקלט מאיזור התופי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442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מדחומי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9999ff"/>
                </a:solidFill>
                <a:latin typeface="Arial"/>
              </a:rPr>
              <a:t>     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מודדי חום בתעלת האוזן-המש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9999ff"/>
                </a:solidFill>
                <a:latin typeface="Arial"/>
              </a:rPr>
              <a:t>יתרונות :</a:t>
            </a:r>
            <a:r>
              <a:rPr b="0" lang="he-I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Arial"/>
              </a:rPr>
              <a:t>זמן בדיקה קצר ביות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Arial"/>
              </a:rPr>
              <a:t>הבדיקה אינה פולשנית ואינה גורמת אי נוחו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66"/>
                </a:solidFill>
                <a:latin typeface="Arial"/>
              </a:rPr>
              <a:t>חסרונות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Arial"/>
              </a:rPr>
              <a:t>  חוסר קורלציה בין החום הנמדד ברקטום או בפה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Arial"/>
              </a:rPr>
              <a:t>      לזה הנמדד באוזן בחלק מהמחקרי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Arial"/>
              </a:rPr>
              <a:t>  בחלק מהמחקרים נמצאה שונות הן בין מדידה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Arial"/>
              </a:rPr>
              <a:t>      למדידה והן בין אוזן לאוזן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Arial"/>
              </a:rPr>
              <a:t>  קיים שוני בין המכשירים השונים הקיימים בשווקים כשלחלק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Arial"/>
              </a:rPr>
              <a:t>      מהם אמינות טובה יותר מלאחרי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Arial"/>
              </a:rPr>
              <a:t>לסיכום:  </a:t>
            </a:r>
            <a:r>
              <a:rPr b="0" lang="he-IL" sz="2000" spc="-1" strike="noStrike">
                <a:solidFill>
                  <a:srgbClr val="ff0066"/>
                </a:solidFill>
                <a:latin typeface="Arial"/>
              </a:rPr>
              <a:t>לא מומל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4600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692360" y="260280"/>
            <a:ext cx="7200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האם חום מעל </a:t>
            </a: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41</a:t>
            </a:r>
            <a:r>
              <a:rPr b="0" lang="he-IL" sz="4000" spc="-1" strike="noStrike">
                <a:solidFill>
                  <a:srgbClr val="ffff00"/>
                </a:solidFill>
                <a:latin typeface="Arial"/>
              </a:rPr>
              <a:t> מצביע על שכיחות גבוהה יותר של זיהומים חמורים ביחס לחומים נמוכים יותר 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287120" y="2852640"/>
            <a:ext cx="65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ffff"/>
                </a:solidFill>
                <a:latin typeface="Arial"/>
              </a:rPr>
              <a:t>כ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589120" y="2852640"/>
            <a:ext cx="88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ffff"/>
                </a:solidFill>
                <a:latin typeface="Arial"/>
              </a:rPr>
              <a:t>לא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140976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3" dur="20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מדידת חום רקטלית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הטמפ' הרקטלית גבוהה יותר עקב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      אספקת דם ירודה יחסי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      בידו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      אפקט "אגן החום" המיוצר ע"י הצואה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הטמפ' הרקטלית מתאחרת – ביחס לחום הליב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לא יעילה במצב של שינויים קיצוניי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עבור כל 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2.5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ס"מ עומק עולה הטמפ' ב-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0.8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מעלו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לא אמינה בפגיעות ראש (עד 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מעלות הבדל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מדידת חום בבית-השחי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אין כל הגיון פיזיולוגי למדידה באיזור ז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משך המדידה עד להגעה לטמפ' מקסימלית – 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דקו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נתון לשינויים בטמפ' העו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מחקרים הדגימו חוסר אמינות בולט של שיטת מדידה ז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שאלות בהן נדון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0066"/>
                </a:solidFill>
                <a:latin typeface="Arial"/>
              </a:rPr>
              <a:t>באילו סקלות נמדד חו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מהי ההגדרה של חו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ההיסטוריה של מדידת החו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הפיזיולוגיה של החום - תרמורגולצי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חום - רע נסבל או טוב הכרחי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איך מודדים חום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איך מורידים חום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24000" y="404640"/>
            <a:ext cx="128268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מדידת חום בעור-התוף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מתבססת על קרינת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טכנולוגית יש לבצע קריאה מדויקת מעור התוף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  ולהבדילה מקרינה מתעלת האוז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יתרונות רבים למיקום,לקלות לקיחת הקריא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חסרונות – אמינות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סקלות למדידת חו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195640" y="1412640"/>
            <a:ext cx="4038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פרנהייט מול צלזיו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480960" cy="218916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5331600" y="3357000"/>
            <a:ext cx="31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aniel Gabriel Fahrenheit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Anders Celsius"/>
          <p:cNvPicPr/>
          <p:nvPr/>
        </p:nvPicPr>
        <p:blipFill>
          <a:blip r:embed="rId3"/>
          <a:stretch/>
        </p:blipFill>
        <p:spPr>
          <a:xfrm>
            <a:off x="900000" y="3935520"/>
            <a:ext cx="1463760" cy="18018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661320" y="335700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ers Celsiu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400536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שאלות בהן נדון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באילו סקלות נמדד חו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0066"/>
                </a:solidFill>
                <a:latin typeface="Arial"/>
              </a:rPr>
              <a:t>מהי ההגדרה של חו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ההיסטוריה של מדידת החו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הפיזיולוגיה של החום - תרמורגולצי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חום - רע נסבל או טוב הכרחי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איך מודדים חום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איך מורידים חום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24000" y="404640"/>
            <a:ext cx="128268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הגדרת המונח חום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FEVER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IS A STATE OF ELEVETED </a:t>
            </a: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CORE TEMPERATURE ,WHICH  IS OFTEN BU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NOT </a:t>
            </a: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NECESSARILY</a:t>
            </a: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ART</a:t>
            </a: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OF </a:t>
            </a: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TH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DEFENCIVE  </a:t>
            </a: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RESPONSES</a:t>
            </a: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OF</a:t>
            </a: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THE MOLTICELLULAR ORGANISM (HOST) 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THE INVATION OF LIVE (MICROORGANISM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OR INANIMATE </a:t>
            </a: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MATTER </a:t>
            </a: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RECOGNIZ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S PATHOGENIC OR ALIEN BY THE HOST</a:t>
            </a:r>
            <a:r>
              <a:rPr b="0" lang="he-IL" sz="2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</a:t>
            </a:r>
            <a:r>
              <a:rPr b="0" lang="en-US" sz="1400" spc="-1" strike="noStrike">
                <a:solidFill>
                  <a:srgbClr val="9999ff"/>
                </a:solidFill>
                <a:latin typeface="Arial"/>
              </a:rPr>
              <a:t>IUPS Thermal Commission. Glossary of terms for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Arial"/>
              </a:rPr>
              <a:t>                                                                        </a:t>
            </a:r>
            <a:r>
              <a:rPr b="0" lang="en-US" sz="1400" spc="-1" strike="noStrike">
                <a:solidFill>
                  <a:srgbClr val="9999ff"/>
                </a:solidFill>
                <a:latin typeface="Arial"/>
              </a:rPr>
              <a:t>thermal physiology.second edition .Pflugers Arch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Arial"/>
              </a:rPr>
              <a:t>                                                                        </a:t>
            </a:r>
            <a:r>
              <a:rPr b="0" lang="en-US" sz="1400" spc="-1" strike="noStrike">
                <a:solidFill>
                  <a:srgbClr val="9999ff"/>
                </a:solidFill>
                <a:latin typeface="Arial"/>
              </a:rPr>
              <a:t>1987;410:567-58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500"/>
                            </p:stCondLst>
                            <p:childTnLst>
                              <p:par>
                                <p:cTn id="18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5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5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שאלות בהן נדון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באילו סקלות נמדד חו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מהי ההגדרה של חו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0066"/>
                </a:solidFill>
                <a:latin typeface="Arial"/>
              </a:rPr>
              <a:t>ההיסטוריה של מדידת החו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הפיזיולוגיה של החום - תרמורגולצי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חום - רע נסבל או טוב הכרחי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איך מודדים חום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</a:rPr>
              <a:t>איך מורידים חום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24000" y="404640"/>
            <a:ext cx="128268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4:21:46Z</dcterms:created>
  <dc:creator>user</dc:creator>
  <dc:description/>
  <dc:language>en-US</dc:language>
  <cp:lastModifiedBy>user</cp:lastModifiedBy>
  <dcterms:modified xsi:type="dcterms:W3CDTF">2005-09-05T07:49:05Z</dcterms:modified>
  <cp:revision>63</cp:revision>
  <dc:subject/>
  <dc:title>FEV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