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9FAB-CC4A-4421-972D-1A6F79E75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925A-EDF2-492C-832F-675F1564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0B55-6A05-4177-B2BD-429E4DB08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8477-A043-42AD-A4EA-8FFBCA90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93C8-2891-459F-AFA1-CDC44008A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4BE0-BE5A-478F-B699-0F14A022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EBDC-6C41-4070-BAB6-A6265629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729A-3DF7-4375-8368-917FB444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3D47-F36B-45A5-B39C-C4B5552D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087D-6E2E-403C-872F-DE3231FD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7A60-5DE8-4E7C-97B4-B2C026B8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E179-F51B-472E-AC4A-BC260AF6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BD7A-6DF7-45D1-BFD5-17503F39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D356-1F66-4FAA-B296-35FE8908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03EF-6FEC-4824-A1A2-9F504AA0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7846-1C47-43B3-AC38-AA1B54A24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680E-D165-48AB-A540-2C7EE428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70A6-94B7-4B1C-9939-A5AA16D0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FFD9-50DC-428A-84B6-A01F369A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038A-492D-4411-A39E-B92E8783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0C60-665A-4D83-9FBB-9917173A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FE01-4C4E-4ACA-B965-17F546B6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A211-2FC1-44DF-AF43-9D49402D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70A5-D4E6-4EBB-B086-B94C55C8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FA06-C347-4B2B-A744-E8B7AB9C4081}" type="slidenum">
              <a:rPr b="0" lang="he-IL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371E-6AF1-4757-A944-FBF20BBE51BF}" type="slidenum">
              <a:rPr b="0" lang="he-IL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rcRect l="0" t="0" r="0" b="3522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60560" y="91404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Obstructive Sleep Apnea Syndrome </a:t>
            </a:r>
            <a:endParaRPr b="0" i="1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5181480"/>
            <a:ext cx="4724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. Amir Ba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nei-Zion Medical Cen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i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Pathophysiolog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15000" y="4861080"/>
            <a:ext cx="685800" cy="176832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057040" y="48610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48720" y="35812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5715000"/>
            <a:ext cx="1828800" cy="459720"/>
          </a:xfrm>
          <a:prstGeom prst="rect">
            <a:avLst/>
          </a:prstGeom>
          <a:solidFill>
            <a:srgbClr val="ffcc66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osed A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3645000"/>
            <a:ext cx="1904760" cy="459720"/>
          </a:xfrm>
          <a:prstGeom prst="rect">
            <a:avLst/>
          </a:prstGeom>
          <a:solidFill>
            <a:srgbClr val="ffcc66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ed A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4191120"/>
            <a:ext cx="533520" cy="143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661" y="1026"/>
                  <a:pt x="5721" y="5080"/>
                  <a:pt x="5721" y="10800"/>
                </a:cubicBezTo>
                <a:cubicBezTo>
                  <a:pt x="5721" y="16520"/>
                  <a:pt x="13661" y="2057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3171960"/>
            <a:ext cx="243864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p. Neg. pressur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1981080"/>
            <a:ext cx="32004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atomical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3171960"/>
            <a:ext cx="2438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haryngeal dil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71800" y="1951200"/>
            <a:ext cx="320040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scle relaxation (Slee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scle atonia (R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uromuscular d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35812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Upper Airway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8920" y="-15264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natomical Factors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0" y="0"/>
          <a:ext cx="93726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372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Anatomical Factor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769608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Neuromuscular Factor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7696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Pathophysiology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Ten-Roman"/>
              </a:rPr>
              <a:t>Vast majority of cases are associated with adeno-tonsillar hypertrophy (AT-H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Ten-Roman"/>
              </a:rPr>
              <a:t>Obesity in children is a risk factor for OSAS, and the severity of OSAS is proportional to the degree of obe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Ten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Ten-Roman"/>
              </a:rPr>
              <a:t>In contrast to adults, most OSAS children are not obese (may have FT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Pathophysiolog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Although strongly associated with AT-Ht, childhood OSAS is </a:t>
            </a:r>
            <a:r>
              <a:rPr b="1" lang="en-US" sz="2800" spc="-1" strike="noStrike">
                <a:solidFill>
                  <a:srgbClr val="000000"/>
                </a:solidFill>
                <a:latin typeface="TimesTen-Roman"/>
              </a:rPr>
              <a:t>not caused by AT-Ht alone</a:t>
            </a: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Ten-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Ten-Roman"/>
              </a:rPr>
              <a:t>No obstruction during wakeful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Ten-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Ten-Roman"/>
              </a:rPr>
              <a:t>Adenotonsillar size and OSAS are not corre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Ten-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Ten-Roman"/>
              </a:rPr>
              <a:t>Deficit in arousal mechanis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Ten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Ten-Roman"/>
              </a:rPr>
              <a:t>Elevated arousal thresholds in response to hypercapnia and increased UA res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Ten-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Ten-Roman"/>
              </a:rPr>
              <a:t>Abnormal centrally mediated activation of UA mus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Complication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Ten-Roman"/>
              </a:rPr>
              <a:t>CVS – systemic and pulmonary HT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Ten-Roman"/>
              </a:rPr>
              <a:t>Neurocognitive/behavior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Ten-Roman"/>
              </a:rPr>
              <a:t>F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Ten-Roman"/>
              </a:rPr>
              <a:t>Enur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OSAS: PSG scree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2227320"/>
            <a:ext cx="1552680" cy="368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in E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658880"/>
            <a:ext cx="861840" cy="368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C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851200"/>
            <a:ext cx="1120680" cy="368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i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097160"/>
            <a:ext cx="2243160" cy="642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ripheral Pulse Volu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5167440"/>
            <a:ext cx="861840" cy="368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5702400"/>
            <a:ext cx="1293840" cy="368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g M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235560"/>
            <a:ext cx="1293840" cy="368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xim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560" y="609480"/>
            <a:ext cx="861840" cy="368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352680"/>
            <a:ext cx="914400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Complications:</a:t>
            </a: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CVS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Cor-pulmonale - used to be a common presentation, but is currently r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Ten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Ten-Roman"/>
              </a:rPr>
              <a:t>When it does develop-can be reversed by T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Palatino-Roman"/>
              </a:rPr>
              <a:t>Tal,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Palatino-Italic"/>
              </a:rPr>
              <a:t>Pediatr Pulmonol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Palatino-Roman"/>
              </a:rPr>
              <a:t>, 1988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Ventriculography in children who had abnormal questionnaire for OS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alatino-Roman"/>
              </a:rPr>
              <a:t>37%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 had Rt. ventricular E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alatino-Roman"/>
              </a:rPr>
              <a:t>67%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 had abnormal wall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All of the 11 pt who had a repeat evaluation after T&amp;A showed </a:t>
            </a:r>
            <a:r>
              <a:rPr b="1" lang="en-US" sz="2400" spc="-1" strike="noStrike">
                <a:solidFill>
                  <a:srgbClr val="000000"/>
                </a:solidFill>
                <a:latin typeface="Palatino-Roman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A “new syndrome”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64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ubMed” search (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leep Apnea; 0-18y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960’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970’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980’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6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990’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0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common 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as significant complications w/o T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n be efficiently treated in the majority of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gt;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wareness and early diagnosis and T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Complications:</a:t>
            </a: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CVS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Palatino-Roman"/>
              </a:rPr>
              <a:t>Shiomi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Palatino-Italic"/>
              </a:rPr>
              <a:t>Chest,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Palatino-Roman"/>
              </a:rPr>
              <a:t> 199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-Roman"/>
              </a:rPr>
              <a:t>Pulsus-paradoxus and leftward shift of the inter-ventricular septum in 3/6 children with O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Correlated with negative esophageal pressure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Palatino-Roman"/>
              </a:rPr>
              <a:t>but not with oxygen desaturation</a:t>
            </a: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, reversed with CP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Complications:</a:t>
            </a: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CVS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 J Respir Crit Care Med. 2004 Apr </a:t>
            </a: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h ambulatory BP in children with sleep-disordered brea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SAS causes intermittent elevation of systemic BP during sle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o determine whether obstructive apnea in children has a tonic effect on diurnal B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SA in children is associated with 24 h BP dysreg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Complications:</a:t>
            </a: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CVS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Palatino-Roman"/>
              </a:rPr>
              <a:t>A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-Bold"/>
              </a:rPr>
              <a:t>The Fourth Report on the Diagnosis, Evaluation, and Treatment of High Blood Pressure in Children and Adolesc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National High Blood Pressure Education Progra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alatino-Roman"/>
              </a:rPr>
              <a:t>Working Group on High Blood Pressure in Children and Adolesc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PEDIATRICS Vol. 114 No. 2 August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Complications:</a:t>
            </a: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CVS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0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Complications</a:t>
            </a:r>
            <a:r>
              <a:rPr b="1" i="1" lang="en-US" sz="4400" spc="-1" strike="noStrike">
                <a:solidFill>
                  <a:srgbClr val="996633"/>
                </a:solidFill>
                <a:latin typeface="Palatino-Bold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Palatino-Bold"/>
              </a:rPr>
              <a:t>Neuroc</a:t>
            </a:r>
            <a:r>
              <a:rPr b="0" lang="en-US" sz="4400" spc="-1" strike="noStrike">
                <a:solidFill>
                  <a:srgbClr val="996633"/>
                </a:solidFill>
                <a:latin typeface="Palatino-Italic"/>
              </a:rPr>
              <a:t>ognitive &amp; Behavioral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Palatino-Roman"/>
              </a:rPr>
              <a:t>Guilleminault, Lung, 1981</a:t>
            </a:r>
            <a:r>
              <a:rPr b="0" i="1" lang="en-US" sz="3200" spc="-1" strike="noStrike">
                <a:solidFill>
                  <a:srgbClr val="000000"/>
                </a:solidFill>
                <a:latin typeface="Palatino-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-Roman"/>
              </a:rPr>
              <a:t>50 children with OSAS (PS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84% - excessive daytime sleep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76% - behavior disturb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42% - hypera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16% - school performanc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Complications</a:t>
            </a:r>
            <a:r>
              <a:rPr b="1" i="1" lang="en-US" sz="4400" spc="-1" strike="noStrike">
                <a:solidFill>
                  <a:srgbClr val="996633"/>
                </a:solidFill>
                <a:latin typeface="Palatino-Bold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Palatino-Bold"/>
              </a:rPr>
              <a:t>Neuroc</a:t>
            </a:r>
            <a:r>
              <a:rPr b="0" lang="en-US" sz="4400" spc="-1" strike="noStrike">
                <a:solidFill>
                  <a:srgbClr val="996633"/>
                </a:solidFill>
                <a:latin typeface="Palatino-Italic"/>
              </a:rPr>
              <a:t>ognitive &amp; Behavioral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Palatino-Roman"/>
              </a:rPr>
              <a:t>Gozal,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Palatino-Italic"/>
              </a:rPr>
              <a:t>Pediatrics,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Palatino-Roman"/>
              </a:rPr>
              <a:t> 1998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297 first graders who were in the lowest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alatino-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 academically were evaluated for OSAS by questionnaire combined with home oxi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54/297 (18.1%) had positive resul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Palatino-Roman"/>
              </a:rPr>
              <a:t>(recommended T&amp;A)</a:t>
            </a:r>
            <a:r>
              <a:rPr b="0" lang="en-US" sz="2000" spc="-1" strike="noStrike">
                <a:solidFill>
                  <a:srgbClr val="000000"/>
                </a:solidFill>
                <a:latin typeface="Palatino-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24/54 underwent T&amp;A and improved their grading significantly, with no change in the untreated OSAS group or the non-OSAS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Palatino-Italic"/>
              </a:rPr>
              <a:t> </a:t>
            </a: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Complications</a:t>
            </a:r>
            <a:r>
              <a:rPr b="1" i="1" lang="en-US" sz="4400" spc="-1" strike="noStrike">
                <a:solidFill>
                  <a:srgbClr val="996633"/>
                </a:solidFill>
                <a:latin typeface="Palatino-Bold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Palatino-Bold"/>
              </a:rPr>
              <a:t>Neuroc</a:t>
            </a:r>
            <a:r>
              <a:rPr b="0" lang="en-US" sz="4400" spc="-1" strike="noStrike">
                <a:solidFill>
                  <a:srgbClr val="996633"/>
                </a:solidFill>
                <a:latin typeface="Palatino-Italic"/>
              </a:rPr>
              <a:t>ognitive &amp; Behavioral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zal D, Sleep,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-related Quality of Life and Depressive Symptoms in Children with Suspected Sleep-Disordered Brea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Narrow-Bold"/>
              </a:rPr>
              <a:t>Conclusions: </a:t>
            </a:r>
            <a:r>
              <a:rPr b="0" lang="en-US" sz="2400" spc="-1" strike="noStrike">
                <a:solidFill>
                  <a:srgbClr val="000000"/>
                </a:solidFill>
                <a:latin typeface="ArialNarrow"/>
              </a:rPr>
              <a:t>Children with suspected OSAS, regardless of the severity of RDI or the presence of obesity, had mo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Narrow"/>
              </a:rPr>
              <a:t>impairments in quality of life and depressive symptoms</a:t>
            </a:r>
            <a:r>
              <a:rPr b="0" lang="en-US" sz="2400" spc="-1" strike="noStrike">
                <a:solidFill>
                  <a:srgbClr val="000000"/>
                </a:solidFill>
                <a:latin typeface="ArialNarrow"/>
              </a:rPr>
              <a:t> than did children who did not sn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Complications</a:t>
            </a:r>
            <a:r>
              <a:rPr b="1" i="1" lang="en-US" sz="4400" spc="-1" strike="noStrike">
                <a:solidFill>
                  <a:srgbClr val="996633"/>
                </a:solidFill>
                <a:latin typeface="Palatino-Bold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Palatino-Bold"/>
              </a:rPr>
              <a:t>Neuroc</a:t>
            </a:r>
            <a:r>
              <a:rPr b="0" lang="en-US" sz="4400" spc="-1" strike="noStrike">
                <a:solidFill>
                  <a:srgbClr val="996633"/>
                </a:solidFill>
                <a:latin typeface="Palatino-Italic"/>
              </a:rPr>
              <a:t>ognitive &amp; Behavioral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llar, Sleep, 200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eep Disorders and Daytime Sleepiness in Children with AD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Narrow"/>
              </a:rPr>
              <a:t>Of the children with ADHD, 17 (50%) had signs of OSAS, compared with 7 of the control group (22%, P &lt; .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Narrow-Bold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Narrow"/>
              </a:rPr>
              <a:t>hildren with ADHD demonstrate objective daytime somnolence (by MSLT), which may explain the beneficial effects of Tx with stimula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Narrow"/>
              </a:rPr>
              <a:t>Primary sleep disorders, especially sleep-disordered breathing and PLMS, should be looke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Complications:</a:t>
            </a:r>
            <a:br>
              <a:rPr sz="4400"/>
            </a:b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FT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TT in OSAS children and reports of growth spurt following T&amp;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posed mechanis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caloric int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spha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caloric expendi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of breathing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normal GH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rupted SWS, post T&amp;A - IGF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Complications</a:t>
            </a:r>
            <a:r>
              <a:rPr b="1" i="1" lang="en-US" sz="4400" spc="-1" strike="noStrike">
                <a:solidFill>
                  <a:srgbClr val="996633"/>
                </a:solidFill>
                <a:latin typeface="Palatino-Bold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Palatino-Bold"/>
              </a:rPr>
              <a:t>Enuresi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Palatino-Roman"/>
              </a:rPr>
              <a:t>Brooks, J Pediatr, 200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slonTwoTwentyFour-Book"/>
              </a:rPr>
              <a:t>Children 4 y and older who had suspected OSAS were asked about enur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slonTwoTwentyFour-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slonTwoTwentyFour-Book"/>
              </a:rPr>
              <a:t>160 pt (90/70; M: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slonTwoTwentyFour-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slonTwoTwentyFour-Book"/>
              </a:rPr>
              <a:t>41% had enuresis (primary/secondary - 3: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slonTwoTwentyFour-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slonTwoTwentyFour-Book"/>
              </a:rPr>
              <a:t>RDI &lt;1: significantly lower prevalence of enuresis (17  vs. 47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slonTwoTwentyFour-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slonTwoTwentyFour-Book"/>
              </a:rPr>
              <a:t>The prevalence of enuresis is associated to the OSAS severity (1-5, 5-15, or &gt;15 events per hou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EEG</a:t>
            </a:r>
            <a:br>
              <a:rPr sz="4400"/>
            </a:b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 Non-REM Sleep Stag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Complications</a:t>
            </a:r>
            <a:r>
              <a:rPr b="1" i="1" lang="en-US" sz="4400" spc="-1" strike="noStrike">
                <a:solidFill>
                  <a:srgbClr val="996633"/>
                </a:solidFill>
                <a:latin typeface="Palatino-Bold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Palatino-Bold"/>
              </a:rPr>
              <a:t>Enuresi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Palatino-Roman"/>
              </a:rPr>
              <a:t>Weid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Palatino-Italic"/>
              </a:rPr>
              <a:t>Otolaryngol Head Neck Surg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Palatino-Roman"/>
              </a:rPr>
              <a:t>199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-Roman"/>
              </a:rPr>
              <a:t>115 enuretic children undergoing T&amp;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66% and 77% reduction in enuretic nights 1m and 6 m Post-T&amp;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In the group with secondary enuresis, 100% were dry 6 m Post-T&amp;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StoneSans-Semibold"/>
              </a:rPr>
              <a:t>Evaluation: </a:t>
            </a:r>
            <a:br>
              <a:rPr sz="4400"/>
            </a:br>
            <a:r>
              <a:rPr b="1" lang="en-US" sz="4400" spc="-1" strike="noStrike">
                <a:solidFill>
                  <a:srgbClr val="996633"/>
                </a:solidFill>
                <a:latin typeface="TimesTen-Roman"/>
              </a:rPr>
              <a:t>Polysomnography</a:t>
            </a:r>
            <a:r>
              <a:rPr b="0" i="1" lang="en-US" sz="4400" spc="-1" strike="noStrike">
                <a:solidFill>
                  <a:srgbClr val="996633"/>
                </a:solidFill>
                <a:latin typeface="TimesTen-Roman"/>
              </a:rPr>
              <a:t> </a:t>
            </a:r>
            <a:r>
              <a:rPr b="0" lang="en-US" sz="4400" spc="-1" strike="noStrike">
                <a:solidFill>
                  <a:srgbClr val="996633"/>
                </a:solidFill>
                <a:latin typeface="TimesTen-Roman"/>
              </a:rPr>
              <a:t>(</a:t>
            </a:r>
            <a:r>
              <a:rPr b="1" lang="en-US" sz="4400" spc="-1" strike="noStrike">
                <a:solidFill>
                  <a:srgbClr val="996633"/>
                </a:solidFill>
                <a:latin typeface="TimesTen-Italic"/>
              </a:rPr>
              <a:t>PSG)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Ten-Roman"/>
              </a:rPr>
              <a:t>PSG is the gold STD for diagn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-Roman"/>
              </a:rPr>
              <a:t>Establishment of diagnosis and seve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Prediction of complications, particularly in the immediate Post-Op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Pre-Op baseline for Post-Op further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Ten-Roman"/>
              </a:rPr>
              <a:t>High costs and shortage of sleep labs &gt;&gt; screening techniques</a:t>
            </a:r>
            <a:r>
              <a:rPr b="1" lang="en-US" sz="3600" spc="-1" strike="noStrike">
                <a:solidFill>
                  <a:srgbClr val="000000"/>
                </a:solidFill>
                <a:latin typeface="Palatino-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StoneSans-Semibold"/>
              </a:rPr>
              <a:t>Evaluation: </a:t>
            </a:r>
            <a:br>
              <a:rPr sz="4400"/>
            </a:br>
            <a:r>
              <a:rPr b="1" lang="en-US" sz="4400" spc="-1" strike="noStrike">
                <a:solidFill>
                  <a:srgbClr val="996633"/>
                </a:solidFill>
                <a:latin typeface="TimesTen-Italic"/>
              </a:rPr>
              <a:t>Screening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Questionn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Snoring audiota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ENT ex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</a:t>
            </a:r>
            <a:r>
              <a:rPr b="1" lang="en-US" sz="2800" spc="-1" strike="noStrike">
                <a:solidFill>
                  <a:srgbClr val="000000"/>
                </a:solidFill>
                <a:latin typeface="TimesTen-Roman"/>
              </a:rPr>
              <a:t>sensitivity and specif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Nocturnal Videota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Oxi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Nap-PS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Ten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Ten-Roman"/>
              </a:rPr>
              <a:t>High false-negative rate, indicative if pos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StoneSans-Semibold"/>
              </a:rPr>
              <a:t>Evaluation</a:t>
            </a:r>
            <a:r>
              <a:rPr b="1" i="1" lang="en-US" sz="4400" spc="-1" strike="noStrike">
                <a:solidFill>
                  <a:srgbClr val="996633"/>
                </a:solidFill>
                <a:latin typeface="Palatino-Bold"/>
              </a:rPr>
              <a:t>: </a:t>
            </a:r>
            <a:br>
              <a:rPr sz="4400"/>
            </a:br>
            <a:r>
              <a:rPr b="1" i="1" lang="he-IL" sz="4400" spc="-1" strike="noStrike">
                <a:solidFill>
                  <a:srgbClr val="996633"/>
                </a:solidFill>
                <a:latin typeface="Palatino-Bold"/>
              </a:rPr>
              <a:t> </a:t>
            </a:r>
            <a:r>
              <a:rPr b="0" lang="en-US" sz="4400" spc="-1" strike="noStrike">
                <a:solidFill>
                  <a:srgbClr val="996633"/>
                </a:solidFill>
                <a:latin typeface="Palatino-Italic"/>
              </a:rPr>
              <a:t>Pulse Oximetr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Palatino-Roman"/>
              </a:rPr>
              <a:t>Brouillett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Palatino-Italic"/>
              </a:rPr>
              <a:t>Pediatrics,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Palatino-Roman"/>
              </a:rPr>
              <a:t> 2000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-Roman"/>
              </a:rPr>
              <a:t>349 children, pulse oximetry during PS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OSAS prevalence – 60.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PPV - 97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NPV - 5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Palatino-Bold"/>
              </a:rPr>
              <a:t>Treatment: </a:t>
            </a:r>
            <a:br>
              <a:rPr sz="4400"/>
            </a:br>
            <a:r>
              <a:rPr b="1" i="1" lang="he-IL" sz="4400" spc="-1" strike="noStrike">
                <a:solidFill>
                  <a:srgbClr val="996633"/>
                </a:solidFill>
                <a:latin typeface="Palatino-Bold"/>
              </a:rPr>
              <a:t> </a:t>
            </a:r>
            <a:r>
              <a:rPr b="0" lang="en-US" sz="4400" spc="-1" strike="noStrike">
                <a:solidFill>
                  <a:srgbClr val="996633"/>
                </a:solidFill>
                <a:latin typeface="Palatino-Italic"/>
              </a:rPr>
              <a:t>T&amp;A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Tonsillectomy with or w/o adenoidectomy is efficient Tx for 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Clinical improvement of symptoms and post-Op complications: CVS, neurocognitive, enuresis,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Palatino-Roman"/>
              </a:rPr>
              <a:t>Suen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Palatino-Italic"/>
              </a:rPr>
              <a:t>Arch Otolaryngol Head Neck Surg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Palatino-Roman"/>
              </a:rPr>
              <a:t>1995: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69 with susp OSAS had PSG, 35/69 had RDI &gt; 5 and referred for T&amp;A, 30/35 had T&amp;A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26/30 had follow-up P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-Roman"/>
              </a:rPr>
              <a:t>Cure rate 8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-Roman"/>
              </a:rPr>
              <a:t>Post-Op snoring: NPV - 100%, and PPV - </a:t>
            </a:r>
            <a:r>
              <a:rPr b="0" lang="en-US" sz="2200" spc="-1" strike="noStrike">
                <a:solidFill>
                  <a:srgbClr val="000000"/>
                </a:solidFill>
                <a:latin typeface="Universal-GreekwithMathP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alatino-Roman"/>
              </a:rPr>
              <a:t>57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-Roman"/>
              </a:rPr>
              <a:t>A high Pre-Op RDI (&gt;19) was a strong predictor of abnormal Post-Op residual abnorma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Palatino-Bold"/>
              </a:rPr>
              <a:t>Treatment: </a:t>
            </a:r>
            <a:br>
              <a:rPr sz="4400"/>
            </a:br>
            <a:r>
              <a:rPr b="1" i="1" lang="he-IL" sz="4400" spc="-1" strike="noStrike">
                <a:solidFill>
                  <a:srgbClr val="996633"/>
                </a:solidFill>
                <a:latin typeface="Palatino-Bold"/>
              </a:rPr>
              <a:t> </a:t>
            </a:r>
            <a:r>
              <a:rPr b="0" lang="en-US" sz="4400" spc="-1" strike="noStrike">
                <a:solidFill>
                  <a:srgbClr val="996633"/>
                </a:solidFill>
                <a:latin typeface="Palatino-Italic"/>
              </a:rPr>
              <a:t>T&amp;A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Palatino-Roman"/>
              </a:rPr>
              <a:t>Nieminen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Palatino-Italic"/>
              </a:rPr>
              <a:t>Arch Otolaryngol Head Neck Surg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Palatino-Roman"/>
              </a:rPr>
              <a:t>. 2000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95% cure rate for a group of 21 children after T&amp;A or tonsillect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Postoperative snoring NPV 100%, PPV </a:t>
            </a:r>
            <a:r>
              <a:rPr b="0" lang="en-US" sz="2800" spc="-1" strike="noStrike">
                <a:solidFill>
                  <a:srgbClr val="000000"/>
                </a:solidFill>
                <a:latin typeface="Universal-GreekwithMathP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20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73% of this group had a previous adenoidectomy, indicating the lack of efficacy of adenoidectomy al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Ten-Roman"/>
              </a:rPr>
              <a:t>Treatment: </a:t>
            </a:r>
            <a:br>
              <a:rPr sz="4400"/>
            </a:br>
            <a:r>
              <a:rPr b="1" lang="en-US" sz="4400" spc="-1" strike="noStrike">
                <a:solidFill>
                  <a:srgbClr val="996633"/>
                </a:solidFill>
                <a:latin typeface="TimesTen-Roman"/>
              </a:rPr>
              <a:t>T&amp;A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Post-Op respiratory compromise (</a:t>
            </a:r>
            <a:r>
              <a:rPr b="1" i="1" lang="en-US" sz="2800" spc="-1" strike="noStrike">
                <a:solidFill>
                  <a:srgbClr val="000000"/>
                </a:solidFill>
                <a:latin typeface="TimesTen-Roman"/>
              </a:rPr>
              <a:t>16-27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Ten-Roman"/>
              </a:rPr>
              <a:t>Causes</a:t>
            </a: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Ten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Ten-Roman"/>
              </a:rPr>
              <a:t>Upper airway ed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Ten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Ten-Roman"/>
              </a:rPr>
              <a:t>Increased secre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Ten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Ten-Roman"/>
              </a:rPr>
              <a:t>Respiratory depression –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Ten-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Ten-Roman"/>
              </a:rPr>
              <a:t> to analgesic/anesthetic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Ten-Roman"/>
              </a:rPr>
              <a:t>Risk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Ten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Ten-Roman"/>
              </a:rPr>
              <a:t>Age &lt;3 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Ten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Ten-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Ten-Roman"/>
              </a:rPr>
              <a:t>severe 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Ten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Ten-Roman"/>
              </a:rPr>
              <a:t>Children with additional medical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Ten-Roman"/>
              </a:rPr>
              <a:t>Treatment: </a:t>
            </a:r>
            <a:br>
              <a:rPr sz="4400"/>
            </a:br>
            <a:r>
              <a:rPr b="1" lang="en-US" sz="4400" spc="-1" strike="noStrike">
                <a:solidFill>
                  <a:srgbClr val="996633"/>
                </a:solidFill>
                <a:latin typeface="TimesTen-Roman"/>
              </a:rPr>
              <a:t>T&amp;A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Ten-Roman"/>
              </a:rPr>
              <a:t>Follow-up PSG</a:t>
            </a:r>
            <a:r>
              <a:rPr b="0" lang="en-US" sz="3200" spc="-1" strike="noStrike">
                <a:solidFill>
                  <a:srgbClr val="000000"/>
                </a:solidFill>
                <a:latin typeface="TimesTen-Roman"/>
              </a:rPr>
              <a:t> (6–8 wk Post-Op) , to ensure that additional Tx is not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Ten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Children with additional risk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Ten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Children with a Pre-Op high R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Palatino-Italic"/>
              </a:rPr>
              <a:t>Other Tx alternativ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Ten-Roman"/>
              </a:rPr>
              <a:t>Uvulopharyngopalatoplasty (UPPP):</a:t>
            </a: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 in CP pt and hypotonic upper airway muscles; it has not been studied in the uncomplicated pediatric 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Ten-Roman"/>
              </a:rPr>
              <a:t>Oral appliances</a:t>
            </a: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 has not been reported in children (it may adversely affect the facial configuration of the growing chil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In children, CPAP is usually used when T&amp;A is unsuccessful or contraindicated rather than as a primary trea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ng inf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 condition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Ten-Roman"/>
              </a:rPr>
              <a:t>Treatment: Oxyge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Improved oxygenation during sleep, w/o obstruction wors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P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Ten-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Ten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Ten-Roman"/>
              </a:rPr>
              <a:t>Few individuals show marked increase in P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Ten-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Ten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Ten-Roman"/>
              </a:rPr>
              <a:t>With no apparent predictive factors for which pt would develop hypercap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Oxygen should never be administered w/o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Ten-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 measuring P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Ten-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Oxygen does not address many of the associated pathophysiological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EEG</a:t>
            </a:r>
            <a:br>
              <a:rPr sz="4400"/>
            </a:b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REM sleep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447920" y="1849320"/>
            <a:ext cx="769608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370280" y="2590560"/>
            <a:ext cx="756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!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Sleep physiolog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9051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4343400"/>
            <a:ext cx="9143640" cy="2514600"/>
            <a:chOff x="0" y="4343400"/>
            <a:chExt cx="9143640" cy="251460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0" y="4343400"/>
              <a:ext cx="914364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92160" y="4923000"/>
              <a:ext cx="11736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5" name=""/>
          <p:cNvGraphicFramePr/>
          <p:nvPr/>
        </p:nvGraphicFramePr>
        <p:xfrm>
          <a:off x="0" y="0"/>
          <a:ext cx="9144000" cy="4314960"/>
        </p:xfrm>
        <a:graphic>
          <a:graphicData uri="http://schemas.openxmlformats.org/drawingml/2006/table">
            <a:tbl>
              <a:tblPr/>
              <a:tblGrid>
                <a:gridCol w="1539720"/>
                <a:gridCol w="1251000"/>
                <a:gridCol w="1476360"/>
                <a:gridCol w="4876920"/>
              </a:tblGrid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OG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. Ton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k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pi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ma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ow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/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xa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63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3-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S”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xa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buClr>
                          <a:srgbClr val="996633"/>
                        </a:buClr>
                        <a:buSzPct val="95000"/>
                        <a:buFont typeface="Wingdings" charset="2"/>
                        <a:buChar char="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abolism , GH secre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524"/>
                        </a:spcBef>
                        <a:buClr>
                          <a:srgbClr val="996633"/>
                        </a:buClr>
                        <a:buSzPct val="95000"/>
                        <a:buFont typeface="Wingdings" charset="2"/>
                        <a:buChar char="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-sympathetic predominanc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3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xa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pi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ni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buClr>
                          <a:srgbClr val="996633"/>
                        </a:buClr>
                        <a:buSzPct val="95000"/>
                        <a:buFont typeface="Wingdings" charset="2"/>
                        <a:buChar char="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eams, Mental, Memory 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524"/>
                        </a:spcBef>
                        <a:buClr>
                          <a:srgbClr val="996633"/>
                        </a:buClr>
                        <a:buSzPct val="95000"/>
                        <a:buFont typeface="Wingdings" charset="2"/>
                        <a:buChar char="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mpathetic predominance (MI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524"/>
                        </a:spcBef>
                        <a:buClr>
                          <a:srgbClr val="996633"/>
                        </a:buClr>
                        <a:buSzPct val="95000"/>
                        <a:buFont typeface="Wingdings" charset="2"/>
                        <a:buChar char="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ile- erectio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524"/>
                        </a:spcBef>
                        <a:buClr>
                          <a:srgbClr val="996633"/>
                        </a:buClr>
                        <a:buSzPct val="95000"/>
                        <a:buFont typeface="Wingdings" charset="2"/>
                        <a:buChar char="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M-Related OS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6172200" y="3429000"/>
            <a:ext cx="297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Classificatio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pne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Greek word - “want of breath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struc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entr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/p the Greeks describe obstructive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Classificatio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Ten-Roman"/>
              </a:rPr>
              <a:t>Respiratory Disturbance Index (RD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Ten-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Ten-Roman"/>
              </a:rPr>
              <a:t>Normal value &lt;1-2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Ten-Roman"/>
              </a:rPr>
              <a:t>per hour of sl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pne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airflow cessatio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Ten-Roman"/>
              </a:rPr>
              <a:t>2 respiratory cycles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ypopne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irflow reductio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Ten-Roman"/>
              </a:rPr>
              <a:t>2 respiratory cycles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piratory Effort Related Arousal (RERA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long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 limitation with associated arousa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pper Airways Resistance Syndro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rmal oxygen sat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Epidemiolog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Ten-Roman"/>
              </a:rPr>
              <a:t>Prevalence</a:t>
            </a: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Ten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Ten-Roman"/>
              </a:rPr>
              <a:t>OSAS: 1-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Ten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Ten-Roman"/>
              </a:rPr>
              <a:t>Primary snoring (PS): 3-1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Ten-Roman"/>
              </a:rPr>
              <a:t>Gender</a:t>
            </a: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Ten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Ten-Roman"/>
              </a:rPr>
              <a:t>M/F ratio 1:1 </a:t>
            </a:r>
            <a:r>
              <a:rPr b="0" i="1" lang="en-US" sz="2400" spc="-1" strike="noStrike">
                <a:solidFill>
                  <a:srgbClr val="000000"/>
                </a:solidFill>
                <a:latin typeface="TimesTen-Roman"/>
              </a:rPr>
              <a:t>(Adults: male predominance)</a:t>
            </a:r>
            <a:r>
              <a:rPr b="0" lang="en-US" sz="2400" spc="-1" strike="noStrike">
                <a:solidFill>
                  <a:srgbClr val="000000"/>
                </a:solidFill>
                <a:latin typeface="TimesTen-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Ten-Roman"/>
              </a:rPr>
              <a:t>Age</a:t>
            </a: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Ten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Ten-Roman"/>
              </a:rPr>
              <a:t>From neonates to adolesc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Ten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Ten-Roman"/>
              </a:rPr>
              <a:t>Commonest in preschool children (2-5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Ten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Ten-Roman"/>
              </a:rPr>
              <a:t>(Peak incidence of adenotonsillar hypertroph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Ten-Roman"/>
              </a:rPr>
              <a:t>Race:</a:t>
            </a: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Ten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Ten-Roman"/>
              </a:rPr>
              <a:t>More common in African-American children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Nocturnal presentatio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sp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th brea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tless sle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23:09:34Z</dcterms:created>
  <dc:creator>רונית לוסקי</dc:creator>
  <dc:description/>
  <dc:language>en-US</dc:language>
  <cp:lastModifiedBy>user</cp:lastModifiedBy>
  <dcterms:modified xsi:type="dcterms:W3CDTF">2005-09-05T06:56:26Z</dcterms:modified>
  <cp:revision>279</cp:revision>
  <dc:subject/>
  <dc:title>Sleep Apnea Syndrome</dc:title>
</cp:coreProperties>
</file>