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4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333-82E2-4F78-A021-0F5BD186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BCD-172B-4762-8D04-DBB51B3A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263-07D5-420B-A648-53FD71C9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0FB-B702-4AD9-86CF-B2C76A5D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084-9CE2-46FF-BEF4-7A277E6A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A902-6659-4BF2-814C-1C5C8EF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752D-4115-44AE-A50E-2D91502E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1D6-920D-421E-BEDB-4F960EF4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C58-3171-4C75-A88B-FC87326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A3B-0745-47FF-BEC7-1B8E0AA4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CFAA-8D1B-43A8-BF1F-70B7C1B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0B5-E011-476D-9626-5DFBEFB2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96F7-0AB9-4DE6-AC34-961A251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69D8-2AA8-47D6-997E-5C05F2B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39E-DA73-4E23-AEC3-613B6D79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6AB-B6E2-42CF-A22A-8A89B200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CE0-AF24-42F7-814B-C90B325E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A35-3C77-41FA-95E1-D589BE2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3D2-4D8E-47B8-96BE-3282A046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B55-C6C8-4158-A358-98EEDB8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864-D842-4A74-A6E9-2EC61FD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263-581F-4ABE-AE95-0C7F43E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CDF-C8CC-4F5D-9924-B48FB4E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A1D-9614-4783-87CC-48611D9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EB3-F485-4FA8-AD91-C637FEEA5ECD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6BDC-6179-45AB-81DF-D8A408BBB8FB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es.google.co.il/imgres?imgurl=http://renux.dmed.ed.ac.uk/EdREN/EdRenINFObits/nephroticpic.100-0034_IMG.JPG&amp;imgrefurl=http://renux.dmed.ed.ac.uk/EdREN/EdRenINFObits/NephroticLong.html&amp;h=284&amp;w=350&amp;sz=37&amp;tbnid=-wJV9a9Av9-9aM:&amp;tbnh=94&amp;tbnw=116&amp;hl=iw&amp;start=17&amp;prev=/images%3Fq%3Dnephrotic%2Bsyndrome%26svnum%3D10%26hl%3Diw%26lr%3D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images.google.co.il/imgres?imgurl=http://weebs.org/weeberworld/kidney/images/kidney-how-it-works.jpg&amp;imgrefurl=http://weebs.org/weeberworld/kidney/&amp;h=234&amp;w=171&amp;sz=21&amp;tbnid=ANAZVVLtfXA1GM:&amp;tbnh=104&amp;tbnw=76&amp;hl=iw&amp;start=36&amp;prev=/images%3Fq%3Dkidney%26start%3D20%26svnum%3D10%26hl%3Diw%26lr%3D%26sa%3DN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athology.vcu.edu/education/renal/images/dc-11.jp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4437000"/>
            <a:ext cx="487836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ד"ר אירית וייסמן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נהלת מחלקת נפרולוגית ילדי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ית החולים  נהרי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פגיעה במרקם הכלי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אבחנה האולטרה-סונוגרפי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תקינות/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יפראקוגניות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ות פוליציסטיות/ציסטיות</a:t>
            </a:r>
            <a:r>
              <a:rPr b="1" i="1" lang="he-IL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זק מבעיה חסימתי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Glomerulo-cystic diseas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תסמונת נפרוטית מולד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57400" y="4800600"/>
          <a:ext cx="2133720" cy="20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800600"/>
                    <a:ext cx="21337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2514600"/>
          <a:ext cx="3200400" cy="177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2514600"/>
                    <a:ext cx="3200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צי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43000" y="1467000"/>
          <a:ext cx="6781680" cy="5086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67000"/>
                    <a:ext cx="678168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 u="sng">
                <a:solidFill>
                  <a:srgbClr val="990000"/>
                </a:solidFill>
                <a:uFillTx/>
                <a:latin typeface="Times New Roman"/>
              </a:rPr>
              <a:t>הגדרה :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990000"/>
                </a:solidFill>
                <a:latin typeface="Times New Roman"/>
              </a:rPr>
              <a:t>התרחבות אגן כליה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עובר מיצר באופן קבוע ותמידי שתן כדי לשמור על נפח מי השפי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בד"כ אגן הכליה &lt;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66cc"/>
                </a:solidFill>
                <a:latin typeface="Arial"/>
                <a:ea typeface="Arial"/>
              </a:rPr>
              <a:t> 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cs typeface="Arial"/>
              </a:rPr>
              <a:t>הידרונפרוזיס : אגן &gt; 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ea typeface="Arial"/>
              </a:rPr>
              <a:t>10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ea typeface="Arial"/>
              </a:rPr>
              <a:t> מ"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280" y="2514600"/>
          <a:ext cx="308952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514600"/>
                    <a:ext cx="3089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276720" y="3886200"/>
          <a:ext cx="2743200" cy="266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886200"/>
                    <a:ext cx="274320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477120" y="3886200"/>
          <a:ext cx="2438280" cy="281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3886200"/>
                    <a:ext cx="24382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דיספלסטיות בלי התרחבות השופכ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צרות באזור ההשקה בין אגן הכליה לשופכן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PJ STENOSIS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). ללא הרחבת שופכ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צרות באזור כניסת השופכן לשלחוף השתן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VJ STENOSIS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עם הרחבת שופכ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רפלוקס מהשלפוחית "למעלה" לכליה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UR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חסימה במוצא השלפוחית : בד"כ מלווה בהרחב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דו"צ  של השופכנים ושל שני אגנוני הכליה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ETIOR URETERAL VALV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דרכי השתן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489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שכיחות ההידרונפרוזיס לפי הקבוצה מבריסטול שבדק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76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שים הרות . ההגדרה של הידרונפרוזיס אצלם הייתה הרחבת אגן &gt;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. נמצא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ודים =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0.59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, הידרונפרוזיס דו"צ נמצא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46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עבודה פרוספקטיבית נוספת של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trok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דק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629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שים. הגדרה של הידרונפרוזיס הייתה אגן &g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.הממצאים הי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ודים =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0.65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דת ההידרונפרוזיס, גודל הכליות, עובי הפרנכימה ,הרחבת שופכנים, הרחבת שלפוחית השתן , וכמות מי השפיר הם המדדים העוזרים לנו לתת את היעוץ הטרום לידת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88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הסבירות כי לילוד תהיה בעיה כלייתית משמעותית לאחר הלידה  היא ביחס ישר לחומרת ההידרונפרוזי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 &gt;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אזי ל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94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ודים תהייה בעי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משמעותית עם אפשרות של צורך בהתערבו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כירורגית. בד"כ מדובר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UPJ stenosi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 בין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0-15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- רק ב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ודים נמצ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 בעיה אנטומית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&lt;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:רק ב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נמצא פגם אנטומי, בד"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רפלוק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עיתים ההידרונפרוזיס לא יודגם בעק"ג  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אח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 ה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דוע כי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הילודים עם הידרונפרוזיס קשה נמצא מומים נלווים בדרכי השת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 יכול גם להיות חלק מתסמונות שונות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תוארו &g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טציות גנטיות וכרומוזומליות בהן יש גם עדות להידרונפרוזי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נומליות נלוות להידרונפרוזיס  יכולות להיות מומי לב מולדים, ואנומליות נוירולוגיות , וגרמ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R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97040" y="1752480"/>
          <a:ext cx="77025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752480"/>
                    <a:ext cx="7702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T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0200" y="1752480"/>
          <a:ext cx="5943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118040" cy="4221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mouse puppets for genetics"/>
          <p:cNvPicPr/>
          <p:nvPr/>
        </p:nvPicPr>
        <p:blipFill>
          <a:blip r:embed="rId2"/>
          <a:stretch/>
        </p:blipFill>
        <p:spPr>
          <a:xfrm>
            <a:off x="3924360" y="2637000"/>
            <a:ext cx="4584600" cy="422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-360" y="-360"/>
            <a:ext cx="9325080" cy="698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8360" y="476280"/>
            <a:ext cx="8675640" cy="17287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המפגש  בין  הגנטיקה  והכליה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T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490840" y="1752480"/>
          <a:ext cx="4086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752480"/>
                    <a:ext cx="4086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דיספלזיה  כליית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גוון מצבים : מאגנזיס של כליה= לא נוצרה כליה. אם  שתי הכליות לא נוצרו                   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תסמונת פוט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גנזיס של כליה אח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קשה יותר לאבח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182880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62120" y="2209680"/>
          <a:ext cx="3962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09680"/>
                    <a:ext cx="3962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גנ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סיכון בהשנות אגנזיס דו"צ הוא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, אך יכול להגיע לכדי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קרים בהם האגנזיס הוא חלק מאנומליות אנטומיות נוספ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רבית המקרים של אגנזיס דו"צ הם ספורד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פקטורים גנטים הם בעלי חשיבות בפתוגנזה של אגנזיס של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ישנה שכיחות יתר במשפחות .לנו ישנה משפחה ערבית מוסלמית עם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דים אשר נולדו עם תסמונת פוטר, ילד אחד עם כליה דיספלסטית וחייך שסוע ובת נוספת עם מחלת כליה פרנכימתו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גנזיס דו"צ  גורם לתסמונת פוט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גנזיס של כליה מלווה ב : אנומליות קרדיו-וסקולאריות: טטראלוגיה ע"ש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llot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S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מים במערכת המוסקולו-סקליטאלית: סירנומליה, חסר של רדיוס,פיבולה, מומי אצבע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מים במערכת העיכול: אטרזיה בתריסריון, פיסטולה טרכיאואזופאגיאלית, אומפלוצל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נומליות כרומוזומליות: טריסומי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תסמונת טרנ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 של אגנזיס של כלי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-ציסטית דיספל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ה גדולה,חסרת תפקוד, כל הפרנכימה מורכבת מציסטות בגדלים שונ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ד"כ חד צדדיות ( דו"צ –גורמות למוות תוך רחמי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עיתים נלווית אטרזיה של השופכן בצד הפגוע, או בעיה חסימתית קש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ה מולטיציסטית-דיספלסטית יכולה לעבור רגרסיה ולהעלם במהלך ההריון. מאידך יכולה גם לגדול למימדי ענ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ילד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I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ם כליה מולטיציסטית דיספלסטית משמאל   וכליה ימנית עם ציסטיק דיספלזיה עם הרחבה נכרת של השופכן מימין- בהדמייה רפלוקס דרגה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מין.לילד הפרעה קלה בתפקודי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66cc"/>
                </a:solidFill>
                <a:latin typeface="Times New Roman"/>
              </a:rPr>
              <a:t>הריון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II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:שתי כליות מולטיציסטיות דיספלסטיות ומיעוט ניכר של מי שפיר.- האשה עברה הפסקת הריון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בדיקה של ההורים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: אמא בריאה עם שתי כליות תקינות. לאבא שתי כליות קטנות עם מספר ציסטות קורטיקליות. מספר כי כל החיים מרבה להטיל שת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ציסטית דיספל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0456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 הריון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III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: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מות מי השפיר תקינה. הרחבה קלה של שני השופכנים והרחבה של שני אגנוני הכליה, כליות היפראקוגניות  וחשד לציסטות בתוכן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לאחר הלידה :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בחנה של ציסטיק דיספלזיה דו"צ. עם הפרעה בתפקודי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בחנה מבדלת היא :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GLOMERULOCYSTIC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DISEAS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–אבחנה היסטולוגית . המתייצגת בחיים התוך רחמיים :ככליות גדולות מאד ,היפראקואיות  (דומות לכליות פוליציסטיות ). בד"כ מהוות חלק מתסמונת- יש לבצע בדיקת מי שפיר וכרומוזומ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YSPLASIA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23920" y="1752480"/>
          <a:ext cx="69706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752480"/>
                    <a:ext cx="69706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cc"/>
                </a:solidFill>
                <a:latin typeface="Times New Roman"/>
              </a:rPr>
              <a:t>POLYCYSTIC KIDNEY DISEAS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פוליציסטיות תורשתיות מתגלות לעייתים קרובות טרום-ליד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קיימות שתי צורות 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RPK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fsntile typ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 ADPKD) 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dult type )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שתיהן יכולות להתגלות כבר ב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-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ARPK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: שתי כליות גדולות מאד היפראקואיות עם  מיעוט מי שפיר –בד"כ נלווית א"ס נשימתית ותמותה עובר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צורות הקלות יותר  הכליות פחות גדולות עם ציסטות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-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קוטר , יש מיעוט קל של מי שפ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תיאור מקר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שה ב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נים הריון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ב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: ממצא של כליה ימנית היפראקוגנית – חשד לכליה פוליציסטי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ממצא מודגש עוד יותר בשב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זוג מופנה לביצוע עק"ג כליות בשאלה של ציסטות בכליה, אצל האבא מתגלו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ציסטות –ציסטה לכל כליה. אין אנמנזה משפחתית של מחלות כלי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סבים והסבתות ג"כ מבצעים עק"ג כלייתי ואצל הסבא מצד האב מתגלו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ציסטות בכליה אחת (איש בן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זוג מחשש כי מדובר 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PKD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פונה לוועדה להפסקת הריו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לאחר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שיבות עם הצוות  החלטנו לשכנע את השניים להמשיך את ההריון בידיעה כי קרוב לוודאי מדובר 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ystic dysplastic kidn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חד צדדית והכליה השנייה בריאה לחלוטי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אבחנה אושרה לאחר ה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lycystic kidney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Autosomal dominant polycystic kidney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שכיחות : פי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יותר מאשר הצורה הרצסיב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ישנם ילדים המייצגים כבר תוך רחמית. תמונה זהה לצורה הרצסיבית.  הפרוגנוזה: גרוע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במקרים בהם נראה כליות תקינות עם ציסטה אחת  או שתיים וכמות מי שפיר תקינה- הפרוגנוזה יותר טובה. ?!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דים יגיעו לאס"כ בעשור 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חייה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חשוב להבדיל בין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2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 הצורות בגלל הסיכון להישנות בצורה הרצסיבית: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25%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 ואילו בדומיננטית :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50%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מצא של שתי כליות גדולות היפראקוגניות מחייב לבצע עק"ג להורים. (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קרים שלנו שחשבנו כי מדובר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PK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יו למעש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PK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אחד ההורים היו ציסטת כלייתיו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Autosomal dominant polycystic kidney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הסיבה מדוע חלק מהחולים יהיו עם ציסטות בילדות  אך יאובחנו רק  מאוחר &gt;גיל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שנהואילו אחרים עם אותה מחלה יתייצגו כבר בחיים התוך רחמיים לא ברור?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אחת ההנחות היא כי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ו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הם הגנים האחראים ליצירת הציסטות אך כנראה ישנם "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difier gene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" הקובעים את קצב התהוות הציסטו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כן לא ניתן לצפות פרוגנוזה בילדים אלו .למעט בקבוצה המתייצגת עם שתי כליות מאד גדולות ומיעוט מי שפיר &lt; שבוע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uberous sclerosis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ג"כ נכנס  ל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(יש לחפש מרקרים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לבביים ומוחיים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מות מי השפיר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פולי-הידרמניוס= ריבוי מי שפיר יכול להיות כאשר העובר פוליאורי,או פגם בספיגת  מי השפיר בילוד עם בעיות במערכת העיכול-אטרז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וצאה העיקרית של מיעוט מי-שפיר היא פגיעה ריאתית עם היפופלזיה של הריאו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צבים של הידרונפרוזיס קשה דו"צ &gt;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של אגני הכליה, יש לעקוב בקפדנות אחר כמות מי השפיר ולשקול נפרוסטומיות מנקזות לחלל השליה או לידה מוקדמת. (אחרי 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מות מי-שפיר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י השפיר נוצרים עד 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-14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"י השליה. לכ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לא נאבחן  מומים כלייתים בשלב זה ע"י מיעוט מ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שפיר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4-1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ש חפיפה ומי השפיר נוצרים ג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בכליות העובריות וגם מהש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 השפיר נוצרים בעיקר ע"י הכליו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עובר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עוט מי שפיר –יצירה מועטת, הפרעה בהפרש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משנית לחסימה, או פגיעה בתפקוד כליי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ongenital nephrotic syndrom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nnish typ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צורה השכיחה באוכלוסיה לבנ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חלה אוטוסומלית רצסיבי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יצגות קלינית : פרוטאינוריה מאסיבית המתחילה כבר בחיים העובריים . הכליות גדולות והיפראקואיו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הבדיל מכליות פוליציסטיות יש ריבוי מי שפיר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fetoprote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דם ובמי השפיר מאד גבוהים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שילוב של  תמונה אולטרהסונוגרפית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fetoprote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ובהעדר פגם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ural tub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אפשרים אבחון תוך רחמ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לד הנפרוט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5111640" cy="403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708280"/>
            <a:ext cx="2627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ץ טרום לידה למשפח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בחון טרום לידה למחלות כליה : הוא "מדע" לא מדוייק, ולכן  מתעוררות הרבה מאד ספק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אשר אנו יועצים למשפחות: אנו מציגים את העובדות לגבי האבחנה הסבירה ביותר ומספרים להם גם את הפרוגנוז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קרים בהם ישנם מספר אנומליות מולדות  אנו מערבים גם את הרופאים האחרים הקשורים לפגמים שאובחנ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אחר ישיבה ארוכה עם בני הזוג והסברים מפורטים אנו שולחים לזוג את סיכום הייעוץ בכת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ץ טרום לידה למשפח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ו לנו הרבה מקרים בהם הסברנו את העלול להתרח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לאחר הלידה כאשר הפרוגנוזה אינה גרועה (מקר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כמו פגיעה רק בכליה אחת , מקרי רפלוקס, ) ולמר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זאת ההורים פנו לועדה להפסקת 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ולחילופין מקרים אשר מראש יידענו את ההורים כ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פרוגנוזה גרועה ולילוד מצפה דיאליזה בתחילת דרכ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ואלו החליטו להמשיך את ההריון. (בעיקר מטעמי דת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לינו לתת את מירב המידע להורים כדי שההחלט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תהיינה  מושכל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השכיחות של מומים כלייתים היא &l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כלל הילודים . מאידך אם נמצא מום כלייתי ישנה שכיחות גבוהה של מומים נלוו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חלואה הכרוכה במומי כליה מולדים גבוהה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/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הילדים עם אי ספיקת כליות הם כתוצאה ממומים  ומחלות כליה מולד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אוכלוסיה באזור שלנו האחוזים גבוהים יותר בגלל  השכיחות הגבוהה של נישואי קרוב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0680" y="1285920"/>
          <a:ext cx="7694640" cy="61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1285920"/>
                    <a:ext cx="769464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נעשה בד"כ כאשר המחלה הכלייתית קשה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 עלולה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להתקדם במהרה לאי ספיקת כליות  והצורך לדיאליזה בגיל צעיר ,ואם לפגיעה הכלייתית נלווים סממנים לא כלייתים קשים. כמו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, תסמונת נפרוטית מולדת, ואפילו במספר מקרים של אלפורט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הבדיל אין צורך באבחון טרום לידתי במקרים של דיאבטיס אינסיפידוס נפרוגני. ניתן היום לאבחן מדם טבורי לאחר הלידה .עם טיפול מוקדם נמנע את מרבית הנזק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תסמונת נפרוטית מולדת –פיניש  טייפ חשובה לאבחון מוקדם: ע"י מציאת המוטציה 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PHS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1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גן המקודד את הנפרין בסיסי שליה. לציין אלפא פטופרוטאינים גבוהים גם בצורה ההטרוזיגוט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צים טרום 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זוגות הופנו עד כה ליעוץ טרום לידה למרפאה הנפרוגנטית כאן. (הפועלת מיוני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ו אחרי סקירת מערכות מורחבת עם אבחנה של   בעיה כליי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זוגות הגיעו לייעוץ בגלל מחלת כליה במשפחה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מחלות כליה תורשת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פחות הגיעו בגלל ידיעה כי במשפחה י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צים טרום 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imary hyperoxaluria typ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ysti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ansse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genital nephrotic syndrome –Finnish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PKD; ARPK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phronopht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Kenney-caffey dise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nt’s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port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553080" y="838080"/>
          <a:ext cx="236232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838080"/>
                    <a:ext cx="23623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105520" y="3581280"/>
          <a:ext cx="3714480" cy="350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581280"/>
                    <a:ext cx="3714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0"/>
          <a:ext cx="9144000" cy="6865920"/>
        </p:xfrm>
        <a:graphic>
          <a:graphicData uri="http://schemas.openxmlformats.org/drawingml/2006/table">
            <a:tbl>
              <a:tblPr/>
              <a:tblGrid>
                <a:gridCol w="3276720"/>
                <a:gridCol w="1981080"/>
                <a:gridCol w="3886200"/>
              </a:tblGrid>
              <a:tr h="5850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enatal find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No of p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ost Natal Find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nephrosis: uni/bilateral&gt;10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unilat/8 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UPJ  stenosis, 3 UVJ stenosis, 2 Ureterocele, 6 VUR. 2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der outlet obstru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Post urethral valve Prune bell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al agenesis unilateral/bila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born with single kidney  Potter syndr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cystic Dysplastic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with vur grade &gt;III, 1 non refluxing megaureter, 1 no rea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ycystic Kidne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 ADPK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ctopic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Pelvic kidney-unilat,1 cross ctop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rsehoe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uble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ffer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phrocalcinosis,neuroblastom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, Cystin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מטרת היעוץ הנפרו-גנט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8780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תמיכה בהורים , לאפשר להם להבין את סוג  הפגיעה,וכמוב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  אם קיימת סיבה לפגם לייעץ לגבי ההריון הבא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ההערכה לגבי הישנות המום /או המחלה הכליית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לעזור למשפחה לקחת החלטות לגבי הפעולה הנכונה לאח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  האבח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הסבר מפורט מהן בדיקות ההדמייה והטיפולים שהילוד יעבור לאחר הליד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תיאור מקר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אשה בת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שנים הריון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ופנתה אלינו לאבחון טרום לידתי של היפראוקסלוריה. נשואה לבן דוד דרגה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לאחותה הנשואה לבן-דוד  יש שני ילדים הסובלים מ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imary Hyperoxaluria type 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אשר עברו השתלות כבד וכלי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מוטציה של המשפחה מוכרת לנו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אנו יודעים כי בני הזוג נשאים של המוטצי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נעשתה אבחנה כי הילד בריא והינו הטרוזיגוט למוטציה 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רחבת אגנוני כליה דו"צ עם שלפוחית מעובה עם טרבקולציות  עם כמות מי שפיר תקינה .מאחר וההידרונפרוזיס גדלה למימדים של&gt;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מ"מ דו"צ,הוחלט ליילד את התינוק 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נולד ילד עם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UV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ואי ספיקה כלייתית. מיד לאחר הלידה צונתרה השלפוחית ונעשה ניסיון לתקן את ה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lv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היום הילד בן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שנתיים עם אי ספיקת כליות ומטופל שמרני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1116000" y="836640"/>
          <a:ext cx="7559640" cy="5040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836640"/>
                    <a:ext cx="7559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0728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עבודת הצוות בתחום הייעוץ הגנטי חשובה מאד כדי לתת להורים  את מירב המידע לגבי הבעיה של הילוד שלה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נוכחות הנפרולוג –הרופא אשר יטפל בילד בהמשך מחד, והיועץ הגנטי הנותן להורים מידע לגבי ההריון הנוכחי וכמובן גם לגבי ההריונות העתידיים נותן להורים את היכולת להתמודד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מאחר ובדיני נפשות עסקינן גם העומס הנפשי של היועצים בצוות קשה ומשמעותי,כל אחד מהשותפים לצוות תומך בעמיתו ומחזק אותו כי ההחלטה שבוצעה הינה –הנכונ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929560" cy="4464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365720"/>
            <a:ext cx="72396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55640" y="1125360"/>
            <a:ext cx="3311640" cy="273528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תוד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ffcc"/>
                </a:solidFill>
                <a:latin typeface="Times New Roman"/>
              </a:rPr>
              <a:t>אבחון טרום לידתי-תוך רחמי</a:t>
            </a:r>
            <a:endParaRPr b="0" lang="en-US" sz="48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שמוש הרוטיני בבדיקת עק"ג (אולטרה-סאונד ) "יצרה" את הצורך בייעוץ  משולב גנטי ונפרולוג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ממצאים כמו : הידרונפרוזיס, מחלה כלייתית ציסטית, אגנזיס של כליה, אבנים בכליות: הממצאים השכיחים המאובחנים טרום-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תיבת פנדורה נפרולוגית-אורולוג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שכיחות של אנומליות כלייתיות מאובחנות טרום-לידה: נעה בין 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0.28%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 לפי הסקרים השונ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פגם השכיח ביותר הוא : הידרונפרוזי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עק"ג מגלה אנומליות במרבית האיברים,הניגוד בין איבר סולידי לנוזל –מקנה לכליה יתרון אבחונ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אנומליות כלייתיות מהוות כ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כלל האנומליות המתגלות בסקירות מוקדמות (שבוע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8-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אנומליות כלייתיות עלולות להיות חלק מתסמונות ו/או להופיע עם מומים נוספ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66"/>
                </a:solidFill>
                <a:latin typeface="Times New Roman"/>
              </a:rPr>
              <a:t>כל יעוץ ניתן על בסיס מה שאנו רואים-תמיד יוותר מרכיב של ספק לגבי מה שאינו  מודג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ffcc"/>
                </a:solidFill>
                <a:latin typeface="Times New Roman"/>
              </a:rPr>
              <a:t>אבחון טרום לידתי-תוך רחמי</a:t>
            </a:r>
            <a:endParaRPr b="0" lang="en-US" sz="48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סוגי האנומליות המאובחנות טרום-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בגודל הכל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במרקם הכל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ציסטות כליית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של  שלחוף השתן, והשופכנ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66cc"/>
                </a:solidFill>
                <a:latin typeface="Times New Roman"/>
              </a:rPr>
              <a:t>העק"ג מגלה אנומליות מבניות אך אינו נותן כל מידע לגבי התפקוד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מידע היחידי העקיף לגבי תפקוד הוא כמות מי השפ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גודל הכליו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כליות גדלות במהלך ההריון, קיימות עקומות עם אחוזונים לפי גיל ה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ורך כליה הוא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לכל שבוע 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סיבות לכליות גדולות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פוליציסט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ה מולטיציסטית דיספלסט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תסמונת נפרוטית מולד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גידול בכלי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ות </a:t>
            </a:r>
            <a:r>
              <a:rPr b="1" i="1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קטנו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כליה דיספלסטית היפופלסט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כליה אשר ניזוקה מבעיה חסימ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לעיתים נהיה עדים לכליה אחת  קטנה והשניה גדולה קומפנסטורית   </a:t>
            </a:r>
            <a:r>
              <a:rPr b="0" lang="he-IL" sz="3200" spc="-1" strike="noStrike" u="sng">
                <a:solidFill>
                  <a:srgbClr val="ff66cc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4191120"/>
          <a:ext cx="335268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191120"/>
                    <a:ext cx="33526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3:20:06Z</dcterms:created>
  <dc:creator>Irith</dc:creator>
  <dc:description/>
  <dc:language>en-US</dc:language>
  <cp:lastModifiedBy>Liora Zakai</cp:lastModifiedBy>
  <dcterms:modified xsi:type="dcterms:W3CDTF">2006-12-07T17:36:42Z</dcterms:modified>
  <cp:revision>29</cp:revision>
  <dc:subject/>
  <dc:title>שקופית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31037</vt:lpwstr>
  </property>
</Properties>
</file>